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43C-4BCF-4830-8A12-8BA62B36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9E7-89A6-4154-87E8-DDD638A4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8FE-D0F3-44C1-9391-A5E1983C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0E4-A686-4DCD-A516-339EEA99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360-8D3A-4609-B45B-28BAE998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7B7-8169-456F-9BFE-2826516A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E97-A088-441F-909E-C7CC21B6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379-59FE-4596-9549-33787D9B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6AF-D61B-41F6-BF53-38D59014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E70-32F4-4E42-8FF8-9D75134F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737-4F35-4DC9-B0D3-D48273D5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C7A-97E0-44C3-89FC-FEF2818A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4E6C-3341-4B4C-8BEE-AB044B1E6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edit.bat HelloWorld\Hello.java" TargetMode="External"/><Relationship Id="rId2" Type="http://schemas.openxmlformats.org/officeDocument/2006/relationships/hyperlink" Target="HelloWorld.bat" TargetMode="External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hyperlink" Target="CanvasLayout.bat" TargetMode="External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Events.bat" TargetMode="External"/><Relationship Id="rId2" Type="http://schemas.openxmlformats.org/officeDocument/2006/relationships/hyperlink" Target="edit.bat Events\Main.java" TargetMode="External"/><Relationship Id="rId3" Type="http://schemas.openxmlformats.org/officeDocument/2006/relationships/hyperlink" Target="Events-compile.bat" TargetMode="External"/><Relationship Id="rId4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hyperlink" Target="edit.bat BallApplet\Main.java" TargetMode="External"/><Relationship Id="rId2" Type="http://schemas.openxmlformats.org/officeDocument/2006/relationships/hyperlink" Target="BallApplet-compile.bat" TargetMode="External"/><Relationship Id="rId3" Type="http://schemas.openxmlformats.org/officeDocument/2006/relationships/hyperlink" Target="BallApplet-appletviewer.bat" TargetMode="External"/><Relationship Id="rId4" Type="http://schemas.openxmlformats.org/officeDocument/2006/relationships/hyperlink" Target="BallApplet-explorer.bat" TargetMode="External"/><Relationship Id="rId5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hyperlink" Target="Swing.bat" TargetMode="External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hyperlink" Target="MikroServer.bat" TargetMode="External"/><Relationship Id="rId2" Type="http://schemas.openxmlformats.org/officeDocument/2006/relationships/hyperlink" Target="edit.bat MikroServer\Main.java" TargetMode="External"/><Relationship Id="rId3" Type="http://schemas.openxmlformats.org/officeDocument/2006/relationships/hyperlink" Target="MikroServer-compile.bat" TargetMode="External"/><Relationship Id="rId4" Type="http://schemas.openxmlformats.org/officeDocument/2006/relationships/hyperlink" Target="MikroServer-browser.bat" TargetMode="External"/><Relationship Id="rId5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VectorTest.bat" TargetMode="External"/><Relationship Id="rId2" Type="http://schemas.openxmlformats.org/officeDocument/2006/relationships/hyperlink" Target="edit.bat VectorTest\Main.java" TargetMode="External"/><Relationship Id="rId3" Type="http://schemas.openxmlformats.org/officeDocument/2006/relationships/hyperlink" Target="tolk.bat" TargetMode="External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FelTest-42.bat" TargetMode="External"/><Relationship Id="rId2" Type="http://schemas.openxmlformats.org/officeDocument/2006/relationships/hyperlink" Target="FelTest-4q2.bat" TargetMode="External"/><Relationship Id="rId3" Type="http://schemas.openxmlformats.org/officeDocument/2006/relationships/hyperlink" Target="tolk.bat" TargetMode="External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MyException-foo.bat" TargetMode="External"/><Relationship Id="rId2" Type="http://schemas.openxmlformats.org/officeDocument/2006/relationships/hyperlink" Target="MyException-bar.bat" TargetMode="External"/><Relationship Id="rId3" Type="http://schemas.openxmlformats.org/officeDocument/2006/relationships/hyperlink" Target="tolk.bat" TargetMode="External"/><Relationship Id="rId4" Type="http://schemas.openxmlformats.org/officeDocument/2006/relationships/hyperlink" Target="edit.bat MyException\Main.java" TargetMode="External"/><Relationship Id="rId5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Throws-foo.bat" TargetMode="External"/><Relationship Id="rId2" Type="http://schemas.openxmlformats.org/officeDocument/2006/relationships/hyperlink" Target="Throws-bar.bat" TargetMode="External"/><Relationship Id="rId3" Type="http://schemas.openxmlformats.org/officeDocument/2006/relationships/hyperlink" Target="tolk.bat" TargetMode="External"/><Relationship Id="rId4" Type="http://schemas.openxmlformats.org/officeDocument/2006/relationships/hyperlink" Target="edit.bat Throws\Main.java" TargetMode="External"/><Relationship Id="rId5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hyperlink" Target="MyThread.bat" TargetMode="External"/><Relationship Id="rId2" Type="http://schemas.openxmlformats.org/officeDocument/2006/relationships/hyperlink" Target="edit.bat MyThread\Main.java" TargetMode="External"/><Relationship Id="rId3" Type="http://schemas.openxmlformats.org/officeDocument/2006/relationships/hyperlink" Target="tolk.bat" TargetMode="External"/><Relationship Id="rId4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HelloApplet-appletviewer.bat" TargetMode="External"/><Relationship Id="rId2" Type="http://schemas.openxmlformats.org/officeDocument/2006/relationships/hyperlink" Target="HelloApplet-explorer.bat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Snabbkurs Jav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lexander Jean-Claude Bott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(albo@polytrust.co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Hello Worl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8240" y="4998600"/>
            <a:ext cx="8059680" cy="1557000"/>
            <a:chOff x="768240" y="4998600"/>
            <a:chExt cx="8059680" cy="1557000"/>
          </a:xfrm>
        </p:grpSpPr>
        <p:sp>
          <p:nvSpPr>
            <p:cNvPr id="84" name=""/>
            <p:cNvSpPr/>
            <p:nvPr/>
          </p:nvSpPr>
          <p:spPr>
            <a:xfrm>
              <a:off x="768240" y="4998600"/>
              <a:ext cx="3289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&gt;javac Hello.jav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&gt;java Hell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Hello World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&gt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4070520" y="5076720"/>
              <a:ext cx="4757400" cy="1352520"/>
              <a:chOff x="4070520" y="5076720"/>
              <a:chExt cx="4757400" cy="1352520"/>
            </a:xfrm>
          </p:grpSpPr>
          <p:sp>
            <p:nvSpPr>
              <p:cNvPr id="86" name=""/>
              <p:cNvSpPr/>
              <p:nvPr/>
            </p:nvSpPr>
            <p:spPr>
              <a:xfrm>
                <a:off x="4070520" y="5076720"/>
                <a:ext cx="196560" cy="257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267080" y="5334120"/>
                <a:ext cx="0" cy="838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4070520" y="6172200"/>
                <a:ext cx="196560" cy="257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422600" y="5485320"/>
                <a:ext cx="440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ff"/>
                    </a:solidFill>
                    <a:latin typeface="Times New Roman"/>
                  </a:rPr>
                  <a:t>Kommandorad (BASH, MS-DOS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691200" y="1446840"/>
            <a:ext cx="6171480" cy="3326040"/>
            <a:chOff x="691200" y="1446840"/>
            <a:chExt cx="6171480" cy="3326040"/>
          </a:xfrm>
        </p:grpSpPr>
        <p:sp>
          <p:nvSpPr>
            <p:cNvPr id="91" name=""/>
            <p:cNvSpPr/>
            <p:nvPr/>
          </p:nvSpPr>
          <p:spPr>
            <a:xfrm>
              <a:off x="691200" y="1446840"/>
              <a:ext cx="318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Filnamn: </a:t>
              </a:r>
              <a:r>
                <a:rPr b="0" lang="sv-SE" sz="2400" spc="-1" strike="noStrike" u="sng">
                  <a:solidFill>
                    <a:srgbClr val="ffffff"/>
                  </a:solidFill>
                  <a:uFillTx/>
                  <a:latin typeface="Lucida Console"/>
                </a:rPr>
                <a:t>Hello</a:t>
              </a: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.jav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4080" y="2117160"/>
              <a:ext cx="6078600" cy="2655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Lucida Console"/>
                </a:rPr>
                <a:t>public class </a:t>
              </a:r>
              <a:r>
                <a:rPr b="1" lang="sv-SE" sz="1800" spc="-1" strike="noStrike" u="sng">
                  <a:solidFill>
                    <a:srgbClr val="ffffff"/>
                  </a:solidFill>
                  <a:uFillTx/>
                  <a:latin typeface="Lucida Console"/>
                </a:rPr>
                <a:t>Hell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Lucida Console"/>
                </a:rPr>
                <a:t>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Lucida Console"/>
                </a:rPr>
                <a:t>    </a:t>
              </a:r>
              <a:r>
                <a:rPr b="1" lang="sv-SE" sz="1800" spc="-1" strike="noStrike">
                  <a:solidFill>
                    <a:srgbClr val="ffffff"/>
                  </a:solidFill>
                  <a:latin typeface="Lucida Console"/>
                </a:rPr>
                <a:t>static public void main(String [] arg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Lucida Console"/>
                </a:rPr>
                <a:t>    </a:t>
              </a:r>
              <a:r>
                <a:rPr b="1" lang="sv-SE" sz="1800" spc="-1" strike="noStrike">
                  <a:solidFill>
                    <a:srgbClr val="ffffff"/>
                  </a:solidFill>
                  <a:latin typeface="Lucida Console"/>
                </a:rPr>
                <a:t>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Lucida Console"/>
                </a:rPr>
                <a:t>        </a:t>
              </a:r>
              <a:r>
                <a:rPr b="1" lang="sv-SE" sz="1800" spc="-1" strike="noStrike">
                  <a:solidFill>
                    <a:srgbClr val="ffffff"/>
                  </a:solidFill>
                  <a:latin typeface="Lucida Console"/>
                </a:rPr>
                <a:t>System.out.println(”Hello World!”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Lucida Console"/>
                </a:rPr>
                <a:t>    </a:t>
              </a:r>
              <a:r>
                <a:rPr b="1" lang="sv-SE" sz="1800" spc="-1" strike="noStrike">
                  <a:solidFill>
                    <a:srgbClr val="ffffff"/>
                  </a:solidFill>
                  <a:latin typeface="Lucida Console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ffffff"/>
                  </a:solidFill>
                  <a:latin typeface="Lucida Console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>
            <a:hlinkClick r:id="rId1"/>
          </p:cNvPr>
          <p:cNvSpPr/>
          <p:nvPr/>
        </p:nvSpPr>
        <p:spPr>
          <a:xfrm>
            <a:off x="7320600" y="2132280"/>
            <a:ext cx="116388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Källk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7321680" y="2813400"/>
            <a:ext cx="6548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Kö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Containrar &amp; layou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omponen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kan läggas i en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 containe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omponenternas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plats och storlek bestäms av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layout-hanterar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arje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har exakt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layout-hanterar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(som kan sätta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Olika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 layout-hanterar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används för olika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layoute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Containrar &amp; layouter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container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är en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, ärver, kompon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lltså ok att ha containrar i containra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omponente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kan därför adde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canvas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omponen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som fungerar som en vanlig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rityt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57200" y="1295280"/>
            <a:ext cx="7086600" cy="51818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mport java.awt.*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mport java.applet.*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MinCanvas extends Canv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/** Aktuell färg. *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olor colo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/** För att konstruera en ny canvas. *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MinCanvas( Color c ) { color = c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/** Canvasens utseende. *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blic void paint( Graphics g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Dimension d = getSiz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g.setColor( color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g.fillRect( 0, 0, d.width, d.height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457200" y="1295280"/>
            <a:ext cx="7315200" cy="51818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blic class Main extends Appl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/** Appletens initieringsfas. *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blic void init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// Sätt layout-hanteraren till ett rutmön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// bestående av 2 rader och 3 kolumner m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// 10 resp. 50 punkters gap/mellanru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etLayout( new GridLayout( 2, 3, 10, 50 )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// Addera komponenter till appleten (containern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add( new MinCanvas( Color.red )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add( new MinCanvas( Color.orange )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add( new MinCanvas( Color.yellow )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add( new MinCanvas( Color.green )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add( new MinCanvas( Color.blue )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add( new MinCanvas( Color.magenta )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>
            <a:hlinkClick r:id="rId1"/>
          </p:cNvPr>
          <p:cNvSpPr/>
          <p:nvPr/>
        </p:nvSpPr>
        <p:spPr>
          <a:xfrm>
            <a:off x="7490160" y="690120"/>
            <a:ext cx="134064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Appletview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 (forts.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Fri layou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nvänd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nu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Komponenternas storlek och position kommer ej att föränd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457200" y="1295280"/>
            <a:ext cx="7086600" cy="51818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mport java.awt.*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mport java.applet.*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MinCanvas extends Canv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olor colo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MinCanvas( Color c, int x, int y, int w, int h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color = c; setLocation(x,y); setSize(w,h)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blic void paint( Graphics g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Dimension d = getSiz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g.setColor( color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g.fillRect( 0, 0, d.width, d.height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Händelsehant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tt program interagerar med övriga system via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händelse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xempel på händels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295280" y="3581280"/>
            <a:ext cx="7162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Musrörelser från användar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Tangentnedtryckningar från användar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Meddelande från annat program/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Händelsehantering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Förändrad sedan JDK 1.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 JDK 1.0 hanterades händelser ungefär som i Windows (= dåligt!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För att en händelse ska fångas behövs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lyssnar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(listen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Det finns olika sorts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lyssnar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: muslyssnare, tangentbordslyssnare, m.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Händelsehantering (3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i kan addera en/flera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lyssnar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till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omponen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dynamisk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(= medan programmet körs)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Det finns olika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lyssnarkategor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lyssnar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ett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adapte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lass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som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implementerar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lyssnar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med ”tom” funktionalit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MyButton extends Button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implements Action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tring []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LABELS = { "foo", "bar", "hej", "xyzzy" }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nt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ndex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MyButto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uper( "Test"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ndex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addActionListener( this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public void actionPerformed( ActionEvent e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etLabel( LABELS[index]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ndex++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f (index == LABELS.length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ndex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Java har automatisk minneshan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Skräpsamling (eng. Garbage Collec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Oåtkomligt minne avallokeras automatisk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Destruktorer (delete) behövs ej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Oroa er aldrig på hur minne ska frigöra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Minneshant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457200" y="762120"/>
            <a:ext cx="8229600" cy="52578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public class Main extends Applet </a:t>
            </a:r>
            <a:r>
              <a:rPr b="1" lang="sv-SE" sz="1400" spc="-1" strike="noStrike">
                <a:solidFill>
                  <a:srgbClr val="ffff00"/>
                </a:solidFill>
                <a:latin typeface="Lucida Console"/>
              </a:rPr>
              <a:t>implements ActionListe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private final Color [] COLORS =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{ Color.red, Color.orange, Color.yellow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Color.green, Color.blue }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private int thisColorIndex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public void init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{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thisColorIndex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Button b = new MyButton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add( b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00"/>
                </a:solidFill>
                <a:latin typeface="Lucida Console"/>
              </a:rPr>
              <a:t>b.addActionListener( this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public void newBackgroun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setBackground( COLORS[thisColorIndex]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thisColorIndex++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if (thisColorIndex &gt;= COLORS.length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thisColorIndex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00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00"/>
                </a:solidFill>
                <a:latin typeface="Lucida Console"/>
              </a:rPr>
              <a:t>public void actionPerformed( ActionEvent e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{ newBackground(); 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>
            <a:hlinkClick r:id="rId1"/>
          </p:cNvPr>
          <p:cNvSpPr/>
          <p:nvPr/>
        </p:nvSpPr>
        <p:spPr>
          <a:xfrm>
            <a:off x="479880" y="6287760"/>
            <a:ext cx="134064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Appletview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>
            <a:hlinkClick r:id="rId2"/>
          </p:cNvPr>
          <p:cNvSpPr/>
          <p:nvPr/>
        </p:nvSpPr>
        <p:spPr>
          <a:xfrm>
            <a:off x="2388960" y="6287760"/>
            <a:ext cx="88020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ällk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>
            <a:hlinkClick r:id="rId3"/>
          </p:cNvPr>
          <p:cNvSpPr/>
          <p:nvPr/>
        </p:nvSpPr>
        <p:spPr>
          <a:xfrm>
            <a:off x="3818520" y="6287760"/>
            <a:ext cx="111636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ompil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Applet, Trådar, Synk., Händels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>
            <a:hlinkClick r:id="rId1"/>
          </p:cNvPr>
          <p:cNvSpPr/>
          <p:nvPr/>
        </p:nvSpPr>
        <p:spPr>
          <a:xfrm>
            <a:off x="1493640" y="6287760"/>
            <a:ext cx="88020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ällk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>
            <a:hlinkClick r:id="rId2"/>
          </p:cNvPr>
          <p:cNvSpPr/>
          <p:nvPr/>
        </p:nvSpPr>
        <p:spPr>
          <a:xfrm>
            <a:off x="2684880" y="6287760"/>
            <a:ext cx="111636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ompil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>
            <a:hlinkClick r:id="rId3"/>
          </p:cNvPr>
          <p:cNvSpPr/>
          <p:nvPr/>
        </p:nvSpPr>
        <p:spPr>
          <a:xfrm>
            <a:off x="4061160" y="6287760"/>
            <a:ext cx="134064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Appletview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>
            <a:hlinkClick r:id="rId4"/>
          </p:cNvPr>
          <p:cNvSpPr/>
          <p:nvPr/>
        </p:nvSpPr>
        <p:spPr>
          <a:xfrm>
            <a:off x="5645880" y="6287760"/>
            <a:ext cx="108900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I Explor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llustrerar trådar, synkronisering, händelsehantering, grafik, apple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Sw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WT för primitivt för att göra GU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javax.swing.* är en påbyggnad på AWT för mer avancerade GU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3276720" y="4038480"/>
            <a:ext cx="2971800" cy="2286000"/>
            <a:chOff x="3276720" y="4038480"/>
            <a:chExt cx="2971800" cy="2286000"/>
          </a:xfrm>
        </p:grpSpPr>
        <p:sp>
          <p:nvSpPr>
            <p:cNvPr id="1037" name=""/>
            <p:cNvSpPr/>
            <p:nvPr/>
          </p:nvSpPr>
          <p:spPr>
            <a:xfrm>
              <a:off x="3276720" y="4038480"/>
              <a:ext cx="2971800" cy="914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ff"/>
                  </a:solidFill>
                  <a:latin typeface="Times New Roman"/>
                </a:rPr>
                <a:t>Sw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76720" y="5410080"/>
              <a:ext cx="2971800" cy="914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ff"/>
                  </a:solidFill>
                  <a:latin typeface="Times New Roman"/>
                </a:rPr>
                <a:t>AW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24280" y="49528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0" name="">
            <a:hlinkClick r:id="rId1"/>
          </p:cNvPr>
          <p:cNvSpPr/>
          <p:nvPr/>
        </p:nvSpPr>
        <p:spPr>
          <a:xfrm>
            <a:off x="7473960" y="6287760"/>
            <a:ext cx="6883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De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Restriktioner för Appl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kan vara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ignerad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eller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osigner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För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ignerad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pplet kan användaren definiera vilka rättigheter får ha (inkl. radera hårddisken :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Undvik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ignerad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applets! (Krångliga att sätta upp och definiera för användaren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Restriktioner för Applets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Lokala filer får ej öppnas/läsas/tas bo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Nätverkförbindelse för endast öppnas till den plats med appletens ursprung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18288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Osignerad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applets har bland annat följande restriktion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Nätve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arje nätverksanslutning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har en unik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IP adress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(IP nummer), t ex 123.456.78.9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arje program utnyttjar ett unik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portnummer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(0-65535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Detta för att inte blanda ihop datatrafik från/till samma nätverksanslutning för andra pro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ocke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en läs/skriv-förbindelse på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por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Nätverk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295280" y="2117520"/>
            <a:ext cx="6397200" cy="2133720"/>
            <a:chOff x="1295280" y="2117520"/>
            <a:chExt cx="6397200" cy="2133720"/>
          </a:xfrm>
        </p:grpSpPr>
        <p:sp>
          <p:nvSpPr>
            <p:cNvPr id="1050" name=""/>
            <p:cNvSpPr/>
            <p:nvPr/>
          </p:nvSpPr>
          <p:spPr>
            <a:xfrm>
              <a:off x="1447920" y="3336840"/>
              <a:ext cx="4876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981080" y="333684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295280" y="3794040"/>
              <a:ext cx="13716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Dator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061000" y="348912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ff"/>
                  </a:solidFill>
                  <a:latin typeface="Lucida Console"/>
                </a:rPr>
                <a:t>123.456.78.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048720" y="211752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ff"/>
                  </a:solidFill>
                  <a:latin typeface="Lucida Console"/>
                </a:rPr>
                <a:t>123.456.78.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410080" y="2498760"/>
              <a:ext cx="13716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Dator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045120" y="29559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2070000" y="4479120"/>
            <a:ext cx="4745880" cy="1100520"/>
            <a:chOff x="2070000" y="4479120"/>
            <a:chExt cx="4745880" cy="1100520"/>
          </a:xfrm>
        </p:grpSpPr>
        <p:sp>
          <p:nvSpPr>
            <p:cNvPr id="1058" name=""/>
            <p:cNvSpPr/>
            <p:nvPr/>
          </p:nvSpPr>
          <p:spPr>
            <a:xfrm>
              <a:off x="2070000" y="4479120"/>
              <a:ext cx="1392480" cy="398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ff"/>
                  </a:solidFill>
                  <a:latin typeface="Times New Roman"/>
                </a:rPr>
                <a:t>Web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080440" y="5180760"/>
              <a:ext cx="1349640" cy="398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ff"/>
                  </a:solidFill>
                  <a:latin typeface="Times New Roman"/>
                </a:rPr>
                <a:t>FTP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587040" y="4524120"/>
              <a:ext cx="322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ff"/>
                  </a:solidFill>
                  <a:latin typeface="Lucida Console"/>
                </a:rPr>
                <a:t>Port 80 (123.456.78.9:80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587040" y="5225760"/>
              <a:ext cx="322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ff"/>
                  </a:solidFill>
                  <a:latin typeface="Lucida Console"/>
                </a:rPr>
                <a:t>Port 21 (123.456.78.9:21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3429000" y="3079800"/>
            <a:ext cx="4647240" cy="1400040"/>
            <a:chOff x="3429000" y="3079800"/>
            <a:chExt cx="4647240" cy="1400040"/>
          </a:xfrm>
        </p:grpSpPr>
        <p:sp>
          <p:nvSpPr>
            <p:cNvPr id="1063" name=""/>
            <p:cNvSpPr/>
            <p:nvPr/>
          </p:nvSpPr>
          <p:spPr>
            <a:xfrm>
              <a:off x="3581280" y="4251240"/>
              <a:ext cx="32767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429000" y="4070520"/>
              <a:ext cx="380880" cy="4093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58000" y="333684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705720" y="3079800"/>
              <a:ext cx="380880" cy="4096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065000" y="31993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Sock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734640" y="38088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Sock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 (Mikroserver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mport java.net.*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mport java.io.*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blic class M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tatic public void main( String [] args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try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// Väldigt icke-feltolerant! :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// Ny server på portnummer 424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erverSocket ss = new ServerSocket( 4242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for (;;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// Vänta på ny förbindels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ocket s = ss.accept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new Connection( s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 catch (Exception e) {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57200" y="762120"/>
            <a:ext cx="8381880" cy="609588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Connection extends Thr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tatic int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nt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ocket socke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nt    i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onnection( Socket s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socket = s; id = cnt; cnt++; start()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blic void ru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 t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  InputStream in = socket.getInputStream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OutputStream out = socket.getOutputStream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BufferedReader br = new BufferedReader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new InputStreamReader(in)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rintStream ps = new PrintStream( out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for (;;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tring str = br.readLin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ystem.out.println( "(" + id + "): " + str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s.println(”&lt;html&gt;&lt;h1&gt;Foo&lt;/h1&gt;Foo is here&lt;/html&gt;”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out.close()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 catch (Exception 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System.out.println( "(" + id + "): ERROR: " + e); } }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>
            <a:hlinkClick r:id="rId1"/>
          </p:cNvPr>
          <p:cNvSpPr/>
          <p:nvPr/>
        </p:nvSpPr>
        <p:spPr>
          <a:xfrm>
            <a:off x="7246440" y="918720"/>
            <a:ext cx="52956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ö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>
            <a:hlinkClick r:id="rId2"/>
          </p:cNvPr>
          <p:cNvSpPr/>
          <p:nvPr/>
        </p:nvSpPr>
        <p:spPr>
          <a:xfrm>
            <a:off x="7265520" y="1452240"/>
            <a:ext cx="88020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ällk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>
            <a:hlinkClick r:id="rId3"/>
          </p:cNvPr>
          <p:cNvSpPr/>
          <p:nvPr/>
        </p:nvSpPr>
        <p:spPr>
          <a:xfrm>
            <a:off x="7256880" y="2020320"/>
            <a:ext cx="111636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ompil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>
            <a:hlinkClick r:id="rId4"/>
          </p:cNvPr>
          <p:cNvSpPr/>
          <p:nvPr/>
        </p:nvSpPr>
        <p:spPr>
          <a:xfrm>
            <a:off x="7245720" y="2595240"/>
            <a:ext cx="91368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Applet som styrprogra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nte helt trivialt p g a de restriktioner som finns för (osignerade) Apple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i måste skriva en egen WebServer i Java och utöka HTTP-protokoll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Utökningen består i en förbindelseigenkänning för den specifika applikation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Referensräkning fungerar ej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Referensräkning: Varje objekt har en räknare på hur många som refererar d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Räknaren = 0 </a:t>
            </a:r>
            <a:r>
              <a:rPr b="0" lang="sv-SE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Frigör min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43000" y="4114800"/>
            <a:ext cx="5105520" cy="2514600"/>
            <a:chOff x="1143000" y="4114800"/>
            <a:chExt cx="5105520" cy="2514600"/>
          </a:xfrm>
        </p:grpSpPr>
        <p:sp>
          <p:nvSpPr>
            <p:cNvPr id="99" name=""/>
            <p:cNvSpPr/>
            <p:nvPr/>
          </p:nvSpPr>
          <p:spPr>
            <a:xfrm>
              <a:off x="1143000" y="4114800"/>
              <a:ext cx="5105520" cy="2514600"/>
            </a:xfrm>
            <a:prstGeom prst="rect">
              <a:avLst/>
            </a:prstGeom>
            <a:solidFill>
              <a:srgbClr val="72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5480" y="4952880"/>
              <a:ext cx="838440" cy="368280"/>
            </a:xfrm>
            <a:prstGeom prst="rect">
              <a:avLst/>
            </a:prstGeom>
            <a:solidFill>
              <a:srgbClr val="1037dc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Kal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5480" y="5334120"/>
              <a:ext cx="228600" cy="305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57400" y="5105520"/>
              <a:ext cx="838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43400" y="4419720"/>
              <a:ext cx="838080" cy="3682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Pel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43400" y="4800600"/>
              <a:ext cx="228600" cy="305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733920" y="4572000"/>
              <a:ext cx="609480" cy="380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00600" y="5562720"/>
              <a:ext cx="838080" cy="368280"/>
            </a:xfrm>
            <a:prstGeom prst="rect">
              <a:avLst/>
            </a:prstGeom>
            <a:solidFill>
              <a:srgbClr val="1037dc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Nis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5943600"/>
              <a:ext cx="228600" cy="305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76920" y="4800600"/>
              <a:ext cx="30456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00200" y="4800600"/>
              <a:ext cx="45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553080" y="5105520"/>
            <a:ext cx="2438640" cy="155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X är den </a:t>
            </a:r>
            <a:r>
              <a:rPr b="0" lang="sv-SE" sz="2400" spc="-1" strike="noStrike" u="sng">
                <a:solidFill>
                  <a:srgbClr val="ffffff"/>
                </a:solidFill>
                <a:uFillTx/>
                <a:latin typeface="Times New Roman"/>
              </a:rPr>
              <a:t>enda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referensen från programmet just n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895480" y="5334120"/>
            <a:ext cx="1905120" cy="380880"/>
            <a:chOff x="2895480" y="5334120"/>
            <a:chExt cx="1905120" cy="380880"/>
          </a:xfrm>
        </p:grpSpPr>
        <p:sp>
          <p:nvSpPr>
            <p:cNvPr id="112" name=""/>
            <p:cNvSpPr/>
            <p:nvPr/>
          </p:nvSpPr>
          <p:spPr>
            <a:xfrm>
              <a:off x="2895480" y="5334120"/>
              <a:ext cx="228600" cy="3052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733560" y="5334120"/>
              <a:ext cx="1067040" cy="380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371600" y="4572000"/>
            <a:ext cx="1752480" cy="1447920"/>
            <a:chOff x="1371600" y="4572000"/>
            <a:chExt cx="1752480" cy="1447920"/>
          </a:xfrm>
        </p:grpSpPr>
        <p:sp>
          <p:nvSpPr>
            <p:cNvPr id="115" name=""/>
            <p:cNvSpPr/>
            <p:nvPr/>
          </p:nvSpPr>
          <p:spPr>
            <a:xfrm>
              <a:off x="1371600" y="4572000"/>
              <a:ext cx="1523880" cy="1447920"/>
            </a:xfrm>
            <a:prstGeom prst="rect">
              <a:avLst/>
            </a:prstGeom>
            <a:solidFill>
              <a:srgbClr val="722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334120"/>
              <a:ext cx="228600" cy="305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Varför skräpsam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Applet som styrprogram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1300680" y="2132640"/>
            <a:ext cx="5856480" cy="459720"/>
            <a:chOff x="1300680" y="2132640"/>
            <a:chExt cx="5856480" cy="459720"/>
          </a:xfrm>
        </p:grpSpPr>
        <p:sp>
          <p:nvSpPr>
            <p:cNvPr id="1081" name=""/>
            <p:cNvSpPr/>
            <p:nvPr/>
          </p:nvSpPr>
          <p:spPr>
            <a:xfrm>
              <a:off x="1300680" y="2132640"/>
              <a:ext cx="1278000" cy="459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Kl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79160" y="2132640"/>
              <a:ext cx="1278000" cy="459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6248520" y="2803680"/>
            <a:ext cx="1388880" cy="2911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imes New Roman"/>
              </a:rPr>
              <a:t>Web Server (eg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2200" y="2819520"/>
            <a:ext cx="1388880" cy="161604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4320" bIns="13716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1981080" y="2634840"/>
            <a:ext cx="4267440" cy="337320"/>
            <a:chOff x="1981080" y="2634840"/>
            <a:chExt cx="4267440" cy="337320"/>
          </a:xfrm>
        </p:grpSpPr>
        <p:sp>
          <p:nvSpPr>
            <p:cNvPr id="1086" name=""/>
            <p:cNvSpPr/>
            <p:nvPr/>
          </p:nvSpPr>
          <p:spPr>
            <a:xfrm>
              <a:off x="2593800" y="2634840"/>
              <a:ext cx="28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Times New Roman"/>
                </a:rPr>
                <a:t>http://123.456.78.9:80/foo.htm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981080" y="2971800"/>
              <a:ext cx="426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1981080" y="3123720"/>
            <a:ext cx="4267440" cy="337320"/>
            <a:chOff x="1981080" y="3123720"/>
            <a:chExt cx="4267440" cy="337320"/>
          </a:xfrm>
        </p:grpSpPr>
        <p:sp>
          <p:nvSpPr>
            <p:cNvPr id="1089" name=""/>
            <p:cNvSpPr/>
            <p:nvPr/>
          </p:nvSpPr>
          <p:spPr>
            <a:xfrm>
              <a:off x="3737160" y="3123720"/>
              <a:ext cx="90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Times New Roman"/>
                </a:rPr>
                <a:t>foo.htm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1981080" y="3429000"/>
              <a:ext cx="426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1066680" y="3549600"/>
            <a:ext cx="914400" cy="870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1981080" y="3549240"/>
            <a:ext cx="4267440" cy="337320"/>
            <a:chOff x="1981080" y="3549240"/>
            <a:chExt cx="4267440" cy="337320"/>
          </a:xfrm>
        </p:grpSpPr>
        <p:sp>
          <p:nvSpPr>
            <p:cNvPr id="1093" name=""/>
            <p:cNvSpPr/>
            <p:nvPr/>
          </p:nvSpPr>
          <p:spPr>
            <a:xfrm>
              <a:off x="2751480" y="3549240"/>
              <a:ext cx="267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Times New Roman"/>
                </a:rPr>
                <a:t>http://123.456.78.9:80/*.cla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81080" y="3886200"/>
              <a:ext cx="426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1981080" y="4006440"/>
            <a:ext cx="4267440" cy="337320"/>
            <a:chOff x="1981080" y="4006440"/>
            <a:chExt cx="4267440" cy="337320"/>
          </a:xfrm>
        </p:grpSpPr>
        <p:sp>
          <p:nvSpPr>
            <p:cNvPr id="1096" name=""/>
            <p:cNvSpPr/>
            <p:nvPr/>
          </p:nvSpPr>
          <p:spPr>
            <a:xfrm>
              <a:off x="3818520" y="4006440"/>
              <a:ext cx="7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Times New Roman"/>
                </a:rPr>
                <a:t>*.cla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1981080" y="4311720"/>
              <a:ext cx="426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8" name=""/>
          <p:cNvSpPr/>
          <p:nvPr/>
        </p:nvSpPr>
        <p:spPr>
          <a:xfrm>
            <a:off x="6254640" y="4997520"/>
            <a:ext cx="908280" cy="7174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Times New Roman"/>
              </a:rPr>
              <a:t>Styr-program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1066680" y="4419720"/>
            <a:ext cx="914400" cy="1295280"/>
            <a:chOff x="1066680" y="4419720"/>
            <a:chExt cx="914400" cy="1295280"/>
          </a:xfrm>
        </p:grpSpPr>
        <p:sp>
          <p:nvSpPr>
            <p:cNvPr id="1100" name=""/>
            <p:cNvSpPr/>
            <p:nvPr/>
          </p:nvSpPr>
          <p:spPr>
            <a:xfrm>
              <a:off x="1066680" y="4844880"/>
              <a:ext cx="914400" cy="8701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ff"/>
                  </a:solidFill>
                  <a:latin typeface="Times New Roman"/>
                </a:rPr>
                <a:t>Styr-programkl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523880" y="4419720"/>
              <a:ext cx="0" cy="425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81080" y="4997160"/>
            <a:ext cx="4267440" cy="337320"/>
            <a:chOff x="1981080" y="4997160"/>
            <a:chExt cx="4267440" cy="337320"/>
          </a:xfrm>
        </p:grpSpPr>
        <p:sp>
          <p:nvSpPr>
            <p:cNvPr id="1103" name=""/>
            <p:cNvSpPr/>
            <p:nvPr/>
          </p:nvSpPr>
          <p:spPr>
            <a:xfrm>
              <a:off x="1981080" y="5334120"/>
              <a:ext cx="426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473280" y="4997160"/>
              <a:ext cx="14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Times New Roman"/>
                </a:rPr>
                <a:t>Eget protokol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Signerade Appl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nga problem med säkerhetsrestriktion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Ny standard i JDK 1.2, använd Netscapes program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igntool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(kräver först ett certifik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Certifikat kan genereras med gratisprogramme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SLe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För att JDK1.2 applets ska kunna köras i en browser krävs Java Plug-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Java Plug-in finns ej till Netsc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Varför skräpsamling?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lltså: Cykliska strukturer kan ej upptäckas medelst referensräk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Typ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typ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matematiskt sett en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än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typ kan vara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ändlig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371600" y="3276720"/>
            <a:ext cx="6172200" cy="2211120"/>
            <a:chOff x="1371600" y="3276720"/>
            <a:chExt cx="6172200" cy="2211120"/>
          </a:xfrm>
        </p:grpSpPr>
        <p:grpSp>
          <p:nvGrpSpPr>
            <p:cNvPr id="123" name=""/>
            <p:cNvGrpSpPr/>
            <p:nvPr/>
          </p:nvGrpSpPr>
          <p:grpSpPr>
            <a:xfrm>
              <a:off x="1371600" y="3276720"/>
              <a:ext cx="2819520" cy="1676160"/>
              <a:chOff x="1371600" y="3276720"/>
              <a:chExt cx="2819520" cy="1676160"/>
            </a:xfrm>
          </p:grpSpPr>
          <p:sp>
            <p:nvSpPr>
              <p:cNvPr id="124" name=""/>
              <p:cNvSpPr/>
              <p:nvPr/>
            </p:nvSpPr>
            <p:spPr>
              <a:xfrm>
                <a:off x="1981080" y="3352680"/>
                <a:ext cx="762120" cy="60984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38280" y="3276720"/>
                <a:ext cx="838440" cy="83808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95480" y="3352680"/>
                <a:ext cx="914400" cy="68580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371600" y="3657600"/>
                <a:ext cx="914400" cy="68580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76520" y="4038480"/>
                <a:ext cx="914400" cy="68580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81080" y="4114800"/>
                <a:ext cx="990720" cy="83808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438280" y="4114800"/>
                <a:ext cx="990720" cy="83808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895480" y="3886200"/>
                <a:ext cx="1219320" cy="83808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76720" y="3581280"/>
                <a:ext cx="914400" cy="83844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752480" y="3505320"/>
                <a:ext cx="1905120" cy="1371600"/>
              </a:xfrm>
              <a:prstGeom prst="ellipse">
                <a:avLst/>
              </a:prstGeom>
              <a:solidFill>
                <a:srgbClr val="009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43200" y="3505320"/>
                <a:ext cx="1295280" cy="1143000"/>
              </a:xfrm>
              <a:prstGeom prst="ellipse">
                <a:avLst/>
              </a:prstGeom>
              <a:solidFill>
                <a:srgbClr val="009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1494360" y="3504600"/>
              <a:ext cx="2554560" cy="1206360"/>
              <a:chOff x="1494360" y="3504600"/>
              <a:chExt cx="2554560" cy="1206360"/>
            </a:xfrm>
          </p:grpSpPr>
          <p:sp>
            <p:nvSpPr>
              <p:cNvPr id="136" name=""/>
              <p:cNvSpPr/>
              <p:nvPr/>
            </p:nvSpPr>
            <p:spPr>
              <a:xfrm>
                <a:off x="1494360" y="373320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800" spc="-1" strike="noStrike">
                    <a:solidFill>
                      <a:srgbClr val="ffffff"/>
                    </a:solidFill>
                    <a:latin typeface="Times New Roman"/>
                  </a:rPr>
                  <a:t>månda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16440" y="3504600"/>
                <a:ext cx="76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800" spc="-1" strike="noStrike">
                    <a:solidFill>
                      <a:srgbClr val="ffffff"/>
                    </a:solidFill>
                    <a:latin typeface="Times New Roman"/>
                  </a:rPr>
                  <a:t>tisda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812240" y="426636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800" spc="-1" strike="noStrike">
                    <a:solidFill>
                      <a:srgbClr val="ffffff"/>
                    </a:solidFill>
                    <a:latin typeface="Times New Roman"/>
                  </a:rPr>
                  <a:t>onsda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56120" y="396180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800" spc="-1" strike="noStrike">
                    <a:solidFill>
                      <a:srgbClr val="ffffff"/>
                    </a:solidFill>
                    <a:latin typeface="Times New Roman"/>
                  </a:rPr>
                  <a:t>torsda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43120" y="4342680"/>
                <a:ext cx="81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800" spc="-1" strike="noStrike">
                    <a:solidFill>
                      <a:srgbClr val="ffffff"/>
                    </a:solidFill>
                    <a:latin typeface="Times New Roman"/>
                  </a:rPr>
                  <a:t>freda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71720" y="3656880"/>
                <a:ext cx="81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800" spc="-1" strike="noStrike">
                    <a:solidFill>
                      <a:srgbClr val="ffffff"/>
                    </a:solidFill>
                    <a:latin typeface="Times New Roman"/>
                  </a:rPr>
                  <a:t>lörda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183840" y="403776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800" spc="-1" strike="noStrike">
                    <a:solidFill>
                      <a:srgbClr val="ffffff"/>
                    </a:solidFill>
                    <a:latin typeface="Times New Roman"/>
                  </a:rPr>
                  <a:t>sönda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2057760" y="502812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Veckodag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724280" y="3276720"/>
              <a:ext cx="2819520" cy="1676160"/>
              <a:chOff x="4724280" y="3276720"/>
              <a:chExt cx="2819520" cy="1676160"/>
            </a:xfrm>
          </p:grpSpPr>
          <p:sp>
            <p:nvSpPr>
              <p:cNvPr id="145" name=""/>
              <p:cNvSpPr/>
              <p:nvPr/>
            </p:nvSpPr>
            <p:spPr>
              <a:xfrm>
                <a:off x="5333760" y="3352680"/>
                <a:ext cx="762120" cy="60984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90960" y="3276720"/>
                <a:ext cx="838440" cy="83808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8160" y="3352680"/>
                <a:ext cx="914400" cy="68580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724280" y="3657600"/>
                <a:ext cx="914400" cy="68580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29200" y="4038480"/>
                <a:ext cx="914400" cy="68580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33760" y="4114800"/>
                <a:ext cx="990720" cy="83808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90960" y="4114800"/>
                <a:ext cx="990720" cy="83808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248160" y="3886200"/>
                <a:ext cx="1219320" cy="83808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29400" y="3581280"/>
                <a:ext cx="914400" cy="83844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05160" y="3505320"/>
                <a:ext cx="1905120" cy="1371600"/>
              </a:xfrm>
              <a:prstGeom prst="ellipse">
                <a:avLst/>
              </a:prstGeom>
              <a:solidFill>
                <a:srgbClr val="009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5880" y="3505320"/>
                <a:ext cx="1295280" cy="1143000"/>
              </a:xfrm>
              <a:prstGeom prst="ellipse">
                <a:avLst/>
              </a:prstGeom>
              <a:solidFill>
                <a:srgbClr val="009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5806800" y="502812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Kurs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188320" y="3656880"/>
              <a:ext cx="1978560" cy="825480"/>
              <a:chOff x="5188320" y="3656880"/>
              <a:chExt cx="1978560" cy="825480"/>
            </a:xfrm>
          </p:grpSpPr>
          <p:sp>
            <p:nvSpPr>
              <p:cNvPr id="158" name=""/>
              <p:cNvSpPr/>
              <p:nvPr/>
            </p:nvSpPr>
            <p:spPr>
              <a:xfrm>
                <a:off x="5188320" y="3656880"/>
                <a:ext cx="175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800" spc="-1" strike="noStrike">
                    <a:solidFill>
                      <a:srgbClr val="ffffff"/>
                    </a:solidFill>
                    <a:latin typeface="Times New Roman"/>
                  </a:rPr>
                  <a:t>Programmerin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10000" y="411408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800" spc="-1" strike="noStrike">
                    <a:solidFill>
                      <a:srgbClr val="ffffff"/>
                    </a:solidFill>
                    <a:latin typeface="Times New Roman"/>
                  </a:rPr>
                  <a:t>Algebr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314040" y="4037760"/>
                <a:ext cx="8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800" spc="-1" strike="noStrike">
                    <a:solidFill>
                      <a:srgbClr val="ffffff"/>
                    </a:solidFill>
                    <a:latin typeface="Times New Roman"/>
                  </a:rPr>
                  <a:t>Analy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Typer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typ kan vara oändli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71600" y="3276720"/>
            <a:ext cx="2819520" cy="2211120"/>
            <a:chOff x="1371600" y="3276720"/>
            <a:chExt cx="2819520" cy="2211120"/>
          </a:xfrm>
        </p:grpSpPr>
        <p:grpSp>
          <p:nvGrpSpPr>
            <p:cNvPr id="164" name=""/>
            <p:cNvGrpSpPr/>
            <p:nvPr/>
          </p:nvGrpSpPr>
          <p:grpSpPr>
            <a:xfrm>
              <a:off x="1371600" y="3276720"/>
              <a:ext cx="2819520" cy="2211120"/>
              <a:chOff x="1371600" y="3276720"/>
              <a:chExt cx="2819520" cy="22111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1371600" y="3276720"/>
                <a:ext cx="2819520" cy="1676160"/>
                <a:chOff x="1371600" y="3276720"/>
                <a:chExt cx="2819520" cy="16761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981080" y="3352680"/>
                  <a:ext cx="762120" cy="60984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438280" y="3276720"/>
                  <a:ext cx="838440" cy="83808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895480" y="3352680"/>
                  <a:ext cx="914400" cy="68580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371600" y="3657600"/>
                  <a:ext cx="914400" cy="68580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676520" y="4038480"/>
                  <a:ext cx="914400" cy="68580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981080" y="4114800"/>
                  <a:ext cx="990720" cy="83808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38280" y="4114800"/>
                  <a:ext cx="990720" cy="83808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895480" y="3886200"/>
                  <a:ext cx="1219320" cy="83808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276720" y="3581280"/>
                  <a:ext cx="914400" cy="83844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752480" y="3505320"/>
                  <a:ext cx="1905120" cy="1371600"/>
                </a:xfrm>
                <a:prstGeom prst="ellipse">
                  <a:avLst/>
                </a:prstGeom>
                <a:solidFill>
                  <a:srgbClr val="0090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3505320"/>
                  <a:ext cx="1295280" cy="1143000"/>
                </a:xfrm>
                <a:prstGeom prst="ellipse">
                  <a:avLst/>
                </a:prstGeom>
                <a:solidFill>
                  <a:srgbClr val="0090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2422440" y="502812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ff"/>
                    </a:solidFill>
                    <a:latin typeface="Times New Roman"/>
                  </a:rPr>
                  <a:t>Helta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753560" y="380880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,-2,-1,0,1,2,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724280" y="3276720"/>
            <a:ext cx="2819520" cy="2211120"/>
            <a:chOff x="4724280" y="3276720"/>
            <a:chExt cx="2819520" cy="2211120"/>
          </a:xfrm>
        </p:grpSpPr>
        <p:grpSp>
          <p:nvGrpSpPr>
            <p:cNvPr id="180" name=""/>
            <p:cNvGrpSpPr/>
            <p:nvPr/>
          </p:nvGrpSpPr>
          <p:grpSpPr>
            <a:xfrm>
              <a:off x="4724280" y="3276720"/>
              <a:ext cx="2819520" cy="2211120"/>
              <a:chOff x="4724280" y="3276720"/>
              <a:chExt cx="2819520" cy="221112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4724280" y="3276720"/>
                <a:ext cx="2819520" cy="1676160"/>
                <a:chOff x="4724280" y="3276720"/>
                <a:chExt cx="2819520" cy="16761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5333760" y="3352680"/>
                  <a:ext cx="762120" cy="60984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790960" y="3276720"/>
                  <a:ext cx="838440" cy="83808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248160" y="3352680"/>
                  <a:ext cx="914400" cy="68580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724280" y="3657600"/>
                  <a:ext cx="914400" cy="68580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029200" y="4038480"/>
                  <a:ext cx="914400" cy="68580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333760" y="4114800"/>
                  <a:ext cx="990720" cy="83808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790960" y="4114800"/>
                  <a:ext cx="990720" cy="83808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248160" y="3886200"/>
                  <a:ext cx="1219320" cy="83808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629400" y="3581280"/>
                  <a:ext cx="914400" cy="838440"/>
                </a:xfrm>
                <a:prstGeom prst="ellipse">
                  <a:avLst/>
                </a:prstGeom>
                <a:solidFill>
                  <a:srgbClr val="00906a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105160" y="3505320"/>
                  <a:ext cx="1905120" cy="1371600"/>
                </a:xfrm>
                <a:prstGeom prst="ellipse">
                  <a:avLst/>
                </a:prstGeom>
                <a:solidFill>
                  <a:srgbClr val="0090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095880" y="3505320"/>
                  <a:ext cx="1295280" cy="1143000"/>
                </a:xfrm>
                <a:prstGeom prst="ellipse">
                  <a:avLst/>
                </a:prstGeom>
                <a:solidFill>
                  <a:srgbClr val="0090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5823720" y="502812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ff"/>
                    </a:solidFill>
                    <a:latin typeface="Times New Roman"/>
                  </a:rPr>
                  <a:t>Strän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875120" y="3808800"/>
              <a:ext cx="252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”</a:t>
              </a: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a”, ”ab”, ”aab”, 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Typer (3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riabel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kan endast anta et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ärd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(åt gånge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t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ärde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är ett element ur en mängd. I detta fall variabelns ty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895480" y="4191120"/>
            <a:ext cx="2819520" cy="1676160"/>
            <a:chOff x="2895480" y="4191120"/>
            <a:chExt cx="2819520" cy="1676160"/>
          </a:xfrm>
        </p:grpSpPr>
        <p:grpSp>
          <p:nvGrpSpPr>
            <p:cNvPr id="198" name=""/>
            <p:cNvGrpSpPr/>
            <p:nvPr/>
          </p:nvGrpSpPr>
          <p:grpSpPr>
            <a:xfrm>
              <a:off x="2895480" y="4191120"/>
              <a:ext cx="2819520" cy="1676160"/>
              <a:chOff x="2895480" y="4191120"/>
              <a:chExt cx="2819520" cy="1676160"/>
            </a:xfrm>
          </p:grpSpPr>
          <p:sp>
            <p:nvSpPr>
              <p:cNvPr id="199" name=""/>
              <p:cNvSpPr/>
              <p:nvPr/>
            </p:nvSpPr>
            <p:spPr>
              <a:xfrm>
                <a:off x="3504960" y="4267080"/>
                <a:ext cx="762120" cy="60984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62160" y="4191120"/>
                <a:ext cx="838440" cy="83808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19360" y="4267080"/>
                <a:ext cx="914400" cy="68580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95480" y="4572000"/>
                <a:ext cx="914400" cy="68580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200400" y="4952880"/>
                <a:ext cx="914400" cy="68580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04960" y="5029200"/>
                <a:ext cx="990720" cy="83808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962160" y="5029200"/>
                <a:ext cx="990720" cy="83808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419360" y="4800600"/>
                <a:ext cx="1219320" cy="83808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800600" y="4495680"/>
                <a:ext cx="914400" cy="83844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276360" y="4419720"/>
                <a:ext cx="1905120" cy="1371600"/>
              </a:xfrm>
              <a:prstGeom prst="ellipse">
                <a:avLst/>
              </a:prstGeom>
              <a:solidFill>
                <a:srgbClr val="009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267080" y="4419720"/>
                <a:ext cx="1295280" cy="1143000"/>
              </a:xfrm>
              <a:prstGeom prst="ellipse">
                <a:avLst/>
              </a:prstGeom>
              <a:solidFill>
                <a:srgbClr val="009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277800" y="4723200"/>
              <a:ext cx="21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,-2,-1,0,1,2,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838080" y="4533840"/>
            <a:ext cx="3200400" cy="1311840"/>
            <a:chOff x="838080" y="4533840"/>
            <a:chExt cx="3200400" cy="1311840"/>
          </a:xfrm>
        </p:grpSpPr>
        <p:sp>
          <p:nvSpPr>
            <p:cNvPr id="212" name=""/>
            <p:cNvSpPr/>
            <p:nvPr/>
          </p:nvSpPr>
          <p:spPr>
            <a:xfrm>
              <a:off x="3733920" y="4800600"/>
              <a:ext cx="30456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642920"/>
              <a:ext cx="9838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{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  … </a:t>
              </a: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x 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7920" y="4533840"/>
              <a:ext cx="2280960" cy="571680"/>
            </a:xfrm>
            <a:custGeom>
              <a:avLst/>
              <a:gdLst/>
              <a:ahLst/>
              <a:rect l="l" t="t" r="r" b="b"/>
              <a:pathLst>
                <a:path w="1437" h="360">
                  <a:moveTo>
                    <a:pt x="0" y="360"/>
                  </a:moveTo>
                  <a:cubicBezTo>
                    <a:pt x="82" y="304"/>
                    <a:pt x="255" y="48"/>
                    <a:pt x="494" y="24"/>
                  </a:cubicBezTo>
                  <a:cubicBezTo>
                    <a:pt x="733" y="0"/>
                    <a:pt x="1241" y="174"/>
                    <a:pt x="1437" y="21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Typer i Jav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52120" y="2743200"/>
            <a:ext cx="6705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Primit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Semi-primit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Komplex (sammansat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2057400"/>
            <a:ext cx="6705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typ i Java kan var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Primitiva typ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08120" y="1890720"/>
          <a:ext cx="7769160" cy="42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1890720"/>
                    <a:ext cx="776916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Primitiva typer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De primitiva typerna är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atomär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(odelbar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ritmetiska typer alltid i tvåkompl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nga signed/unsigned (alltid signed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6765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Bakgr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Grundläggande om Java och programm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Objektorienterad programmering och ar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Grundläggande om grafiska gränssni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Avancerade konstruktioner med ar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App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Händelsestyrd programm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Nätverk &amp; sock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Jini och Javas framtid (diskuss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Innehå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Semi-primitiva typ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Direktstöd i språket (kompilator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Kompletterande biblioteksstöd (= klass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Kännetecknas med en ledande vers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Har samma status som komplexa typ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Semi-primitiva typer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374840" y="2189160"/>
          <a:ext cx="6340320" cy="303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189160"/>
                    <a:ext cx="634032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Komplexa typ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Sammansatt från andra typer (primitiva eller komplex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lltid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lass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och vice ver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Konvention att alltid inledas med en vers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Klass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lass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= en typ med tillhörande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meto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metod =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operation på et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ärd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(objek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onstrukto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= hur nya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ärden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ska skap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lla klasser har minst en konstruk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ngen destruktor! (Till skillnad från C+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31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Klasser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8720" y="1101600"/>
            <a:ext cx="3381120" cy="29246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288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class Per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String    nam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int       åld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Adress    adres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Person    kompi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65800" y="1103040"/>
            <a:ext cx="3381120" cy="25527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288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class Ad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String    gat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int       postn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String    or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6640" y="4295520"/>
            <a:ext cx="726912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Varje </a:t>
            </a:r>
            <a:r>
              <a:rPr b="0" i="1" lang="sv-SE" sz="2400" spc="-1" strike="noStrike">
                <a:solidFill>
                  <a:srgbClr val="ffffff"/>
                </a:solidFill>
                <a:latin typeface="Times New Roman"/>
              </a:rPr>
              <a:t>attribut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i den komplexa typen har ett namn (och typ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Obs! Typerna </a:t>
            </a:r>
            <a:r>
              <a:rPr b="0" lang="sv-SE" sz="2400" spc="-1" strike="noStrike">
                <a:solidFill>
                  <a:srgbClr val="ffffff"/>
                </a:solidFill>
                <a:latin typeface="Lucida Console"/>
              </a:rPr>
              <a:t>Person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och </a:t>
            </a:r>
            <a:r>
              <a:rPr b="0" lang="sv-SE" sz="2400" spc="-1" strike="noStrike">
                <a:solidFill>
                  <a:srgbClr val="ffffff"/>
                </a:solidFill>
                <a:latin typeface="Lucida Console"/>
              </a:rPr>
              <a:t>Adress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är mängd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Typen </a:t>
            </a:r>
            <a:r>
              <a:rPr b="0" lang="sv-SE" sz="2400" spc="-1" strike="noStrike">
                <a:solidFill>
                  <a:srgbClr val="ffffff"/>
                </a:solidFill>
                <a:latin typeface="Lucida Console"/>
              </a:rPr>
              <a:t>Person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är oändlig och </a:t>
            </a:r>
            <a:r>
              <a:rPr b="0" lang="sv-SE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kursiv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; varje person har en kompis (av samma typ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Komplexa värden (objekt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lemente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null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finns alltid i alla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komplex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typ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null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betyder ungefär ”inget värde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057400" y="1600200"/>
            <a:ext cx="1980720" cy="1066320"/>
            <a:chOff x="2057400" y="1600200"/>
            <a:chExt cx="1980720" cy="1066320"/>
          </a:xfrm>
        </p:grpSpPr>
        <p:grpSp>
          <p:nvGrpSpPr>
            <p:cNvPr id="240" name=""/>
            <p:cNvGrpSpPr/>
            <p:nvPr/>
          </p:nvGrpSpPr>
          <p:grpSpPr>
            <a:xfrm>
              <a:off x="2057400" y="1600200"/>
              <a:ext cx="1980720" cy="1066320"/>
              <a:chOff x="2057400" y="1600200"/>
              <a:chExt cx="1980720" cy="1066320"/>
            </a:xfrm>
          </p:grpSpPr>
          <p:sp>
            <p:nvSpPr>
              <p:cNvPr id="241" name=""/>
              <p:cNvSpPr/>
              <p:nvPr/>
            </p:nvSpPr>
            <p:spPr>
              <a:xfrm>
                <a:off x="2485440" y="1648440"/>
                <a:ext cx="535320" cy="38808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06920" y="1600200"/>
                <a:ext cx="588960" cy="53316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28040" y="1648440"/>
                <a:ext cx="642240" cy="43632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057400" y="1842480"/>
                <a:ext cx="642240" cy="43632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271600" y="2084760"/>
                <a:ext cx="642240" cy="43632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85440" y="2133360"/>
                <a:ext cx="695880" cy="53316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806920" y="2133360"/>
                <a:ext cx="695880" cy="53316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28040" y="1987920"/>
                <a:ext cx="856440" cy="53316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95880" y="1793880"/>
                <a:ext cx="642240" cy="53352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324880" y="1745640"/>
                <a:ext cx="1338480" cy="872640"/>
              </a:xfrm>
              <a:prstGeom prst="ellipse">
                <a:avLst/>
              </a:prstGeom>
              <a:solidFill>
                <a:srgbClr val="009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021120" y="1745640"/>
                <a:ext cx="910080" cy="727200"/>
              </a:xfrm>
              <a:prstGeom prst="ellipse">
                <a:avLst/>
              </a:prstGeom>
              <a:solidFill>
                <a:srgbClr val="009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2592360" y="190404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648320" y="1600200"/>
            <a:ext cx="1980720" cy="1066320"/>
            <a:chOff x="4648320" y="1600200"/>
            <a:chExt cx="1980720" cy="1066320"/>
          </a:xfrm>
        </p:grpSpPr>
        <p:grpSp>
          <p:nvGrpSpPr>
            <p:cNvPr id="254" name=""/>
            <p:cNvGrpSpPr/>
            <p:nvPr/>
          </p:nvGrpSpPr>
          <p:grpSpPr>
            <a:xfrm>
              <a:off x="4648320" y="1600200"/>
              <a:ext cx="1980720" cy="1066320"/>
              <a:chOff x="4648320" y="1600200"/>
              <a:chExt cx="1980720" cy="1066320"/>
            </a:xfrm>
          </p:grpSpPr>
          <p:sp>
            <p:nvSpPr>
              <p:cNvPr id="255" name=""/>
              <p:cNvSpPr/>
              <p:nvPr/>
            </p:nvSpPr>
            <p:spPr>
              <a:xfrm>
                <a:off x="5076360" y="1648440"/>
                <a:ext cx="535320" cy="38808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397840" y="1600200"/>
                <a:ext cx="588960" cy="53316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18960" y="1648440"/>
                <a:ext cx="642240" cy="43632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648320" y="1842480"/>
                <a:ext cx="642240" cy="43632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62520" y="2084760"/>
                <a:ext cx="642240" cy="43632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076360" y="2133360"/>
                <a:ext cx="695880" cy="53316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397840" y="2133360"/>
                <a:ext cx="695880" cy="53316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18960" y="1987920"/>
                <a:ext cx="856440" cy="53316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86800" y="1793880"/>
                <a:ext cx="642240" cy="533520"/>
              </a:xfrm>
              <a:prstGeom prst="ellipse">
                <a:avLst/>
              </a:prstGeom>
              <a:solidFill>
                <a:srgbClr val="00906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915800" y="1745640"/>
                <a:ext cx="1338480" cy="872640"/>
              </a:xfrm>
              <a:prstGeom prst="ellipse">
                <a:avLst/>
              </a:prstGeom>
              <a:solidFill>
                <a:srgbClr val="009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612040" y="1745640"/>
                <a:ext cx="910080" cy="727200"/>
              </a:xfrm>
              <a:prstGeom prst="ellipse">
                <a:avLst/>
              </a:prstGeom>
              <a:solidFill>
                <a:srgbClr val="009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5175360" y="190404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Ad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825480" y="2666520"/>
            <a:ext cx="2603520" cy="2362680"/>
            <a:chOff x="825480" y="2666520"/>
            <a:chExt cx="2603520" cy="2362680"/>
          </a:xfrm>
        </p:grpSpPr>
        <p:sp>
          <p:nvSpPr>
            <p:cNvPr id="268" name=""/>
            <p:cNvSpPr/>
            <p:nvPr/>
          </p:nvSpPr>
          <p:spPr>
            <a:xfrm>
              <a:off x="2052720" y="3505320"/>
              <a:ext cx="1371600" cy="380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”</a:t>
              </a: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Kalle Kula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2720" y="3886200"/>
              <a:ext cx="1371600" cy="380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7400" y="4267080"/>
              <a:ext cx="1371600" cy="381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48040" y="4648320"/>
              <a:ext cx="1380960" cy="366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0160" y="3568680"/>
              <a:ext cx="1138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namn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25480" y="3906720"/>
              <a:ext cx="1138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ålder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5200" y="4287960"/>
              <a:ext cx="1137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adres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30160" y="4640400"/>
              <a:ext cx="113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kompi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3505320"/>
              <a:ext cx="1371600" cy="1523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743200" y="2666520"/>
              <a:ext cx="228600" cy="7621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580920" y="2514240"/>
            <a:ext cx="1981800" cy="3581640"/>
            <a:chOff x="3580920" y="2514240"/>
            <a:chExt cx="1981800" cy="3581640"/>
          </a:xfrm>
        </p:grpSpPr>
        <p:sp>
          <p:nvSpPr>
            <p:cNvPr id="279" name=""/>
            <p:cNvSpPr/>
            <p:nvPr/>
          </p:nvSpPr>
          <p:spPr>
            <a:xfrm>
              <a:off x="4191120" y="4664160"/>
              <a:ext cx="1363680" cy="366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”</a:t>
              </a: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Märta Kula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91120" y="5033880"/>
              <a:ext cx="1371600" cy="3668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47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91120" y="5391000"/>
              <a:ext cx="1371600" cy="3668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1120" y="5748480"/>
              <a:ext cx="1371600" cy="347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91120" y="4648320"/>
              <a:ext cx="1371600" cy="1447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3580920" y="2514240"/>
              <a:ext cx="762120" cy="2057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773600" y="2666520"/>
            <a:ext cx="2313000" cy="1981800"/>
            <a:chOff x="4773600" y="2666520"/>
            <a:chExt cx="2313000" cy="1981800"/>
          </a:xfrm>
        </p:grpSpPr>
        <p:sp>
          <p:nvSpPr>
            <p:cNvPr id="286" name=""/>
            <p:cNvSpPr/>
            <p:nvPr/>
          </p:nvSpPr>
          <p:spPr>
            <a:xfrm>
              <a:off x="5715000" y="3581280"/>
              <a:ext cx="1366920" cy="3398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”</a:t>
              </a: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Hornsg. 55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15000" y="3924360"/>
              <a:ext cx="1357200" cy="366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1184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15000" y="4281480"/>
              <a:ext cx="1371600" cy="3668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”</a:t>
              </a: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Stockholm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88080" y="3559320"/>
              <a:ext cx="7426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gata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73600" y="3897360"/>
              <a:ext cx="852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postnr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65760" y="4278240"/>
              <a:ext cx="770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ort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15000" y="3581280"/>
              <a:ext cx="1371600" cy="106704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5943240" y="2666520"/>
              <a:ext cx="228600" cy="838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666880" y="3294000"/>
            <a:ext cx="3689640" cy="2405160"/>
            <a:chOff x="2666880" y="3294000"/>
            <a:chExt cx="3689640" cy="2405160"/>
          </a:xfrm>
        </p:grpSpPr>
        <p:sp>
          <p:nvSpPr>
            <p:cNvPr id="295" name=""/>
            <p:cNvSpPr/>
            <p:nvPr/>
          </p:nvSpPr>
          <p:spPr>
            <a:xfrm>
              <a:off x="2666880" y="4876920"/>
              <a:ext cx="1524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09720" y="3294000"/>
              <a:ext cx="2965680" cy="1182600"/>
            </a:xfrm>
            <a:custGeom>
              <a:avLst/>
              <a:gdLst/>
              <a:ahLst/>
              <a:rect l="l" t="t" r="r" b="b"/>
              <a:pathLst>
                <a:path w="1868" h="745">
                  <a:moveTo>
                    <a:pt x="0" y="745"/>
                  </a:moveTo>
                  <a:cubicBezTo>
                    <a:pt x="144" y="727"/>
                    <a:pt x="614" y="745"/>
                    <a:pt x="865" y="634"/>
                  </a:cubicBezTo>
                  <a:cubicBezTo>
                    <a:pt x="1116" y="523"/>
                    <a:pt x="1341" y="154"/>
                    <a:pt x="1508" y="77"/>
                  </a:cubicBezTo>
                  <a:cubicBezTo>
                    <a:pt x="1675" y="0"/>
                    <a:pt x="1793" y="152"/>
                    <a:pt x="1868" y="17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49920" y="4681440"/>
              <a:ext cx="1506600" cy="1017720"/>
            </a:xfrm>
            <a:custGeom>
              <a:avLst/>
              <a:gdLst/>
              <a:ahLst/>
              <a:rect l="l" t="t" r="r" b="b"/>
              <a:pathLst>
                <a:path w="949" h="641">
                  <a:moveTo>
                    <a:pt x="0" y="559"/>
                  </a:moveTo>
                  <a:cubicBezTo>
                    <a:pt x="124" y="557"/>
                    <a:pt x="585" y="641"/>
                    <a:pt x="743" y="548"/>
                  </a:cubicBezTo>
                  <a:cubicBezTo>
                    <a:pt x="901" y="455"/>
                    <a:pt x="906" y="114"/>
                    <a:pt x="949" y="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Konstruktor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klass kan ha en/flera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onstruktore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onstrukto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talar om vilke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ärd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ett nytt objekt ska antag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Operator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new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tillsammans med konstruktorn skapar nya värd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arje nytt värde via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new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unik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Matematiskt sett har varje nytt objekt en ”tidsstämpel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Konstruktorer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2286000"/>
            <a:ext cx="3384360" cy="28494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class Per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String    nam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int       åld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Adress    adres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Person    kompi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48320" y="2274840"/>
            <a:ext cx="3809880" cy="29246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Lucida Console"/>
              </a:rPr>
              <a:t>...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Person( String n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namn = 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ålder = 1234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adress = nul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kompis = nul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1614600"/>
            <a:ext cx="1198440" cy="3821040"/>
          </a:xfrm>
          <a:custGeom>
            <a:avLst/>
            <a:gdLst/>
            <a:ahLst/>
            <a:rect l="l" t="t" r="r" b="b"/>
            <a:pathLst>
              <a:path w="755" h="2407">
                <a:moveTo>
                  <a:pt x="0" y="2199"/>
                </a:moveTo>
                <a:cubicBezTo>
                  <a:pt x="20" y="2259"/>
                  <a:pt x="40" y="2319"/>
                  <a:pt x="96" y="2343"/>
                </a:cubicBezTo>
                <a:cubicBezTo>
                  <a:pt x="152" y="2367"/>
                  <a:pt x="288" y="2407"/>
                  <a:pt x="336" y="2343"/>
                </a:cubicBezTo>
                <a:cubicBezTo>
                  <a:pt x="384" y="2279"/>
                  <a:pt x="368" y="2300"/>
                  <a:pt x="384" y="1959"/>
                </a:cubicBezTo>
                <a:cubicBezTo>
                  <a:pt x="400" y="1618"/>
                  <a:pt x="377" y="588"/>
                  <a:pt x="430" y="294"/>
                </a:cubicBezTo>
                <a:cubicBezTo>
                  <a:pt x="483" y="0"/>
                  <a:pt x="655" y="171"/>
                  <a:pt x="705" y="192"/>
                </a:cubicBezTo>
                <a:cubicBezTo>
                  <a:pt x="755" y="213"/>
                  <a:pt x="725" y="375"/>
                  <a:pt x="730" y="42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4240" y="1652760"/>
            <a:ext cx="165600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16666"/>
              <a:gd name="adj5" fmla="val 170185"/>
              <a:gd name="adj6" fmla="val -2973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Konstruk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Konstruktorer (3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38280" y="3505320"/>
            <a:ext cx="137160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Kall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886200"/>
            <a:ext cx="137160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12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43320" y="4267080"/>
            <a:ext cx="137160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800" spc="-1" strike="noStrike">
                <a:solidFill>
                  <a:srgbClr val="ffffff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3600" y="4648320"/>
            <a:ext cx="1381320" cy="366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800" spc="-1" strike="noStrike">
                <a:solidFill>
                  <a:srgbClr val="ffffff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6080" y="3568680"/>
            <a:ext cx="113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nam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1400" y="3906720"/>
            <a:ext cx="113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åld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20760" y="4287960"/>
            <a:ext cx="113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adres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6080" y="4640400"/>
            <a:ext cx="113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komp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43320" y="3505320"/>
            <a:ext cx="1371600" cy="1523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581280" y="1752480"/>
            <a:ext cx="1981440" cy="1067040"/>
            <a:chOff x="3581280" y="1752480"/>
            <a:chExt cx="1981440" cy="1067040"/>
          </a:xfrm>
        </p:grpSpPr>
        <p:sp>
          <p:nvSpPr>
            <p:cNvPr id="316" name=""/>
            <p:cNvSpPr/>
            <p:nvPr/>
          </p:nvSpPr>
          <p:spPr>
            <a:xfrm>
              <a:off x="4009320" y="1800720"/>
              <a:ext cx="535320" cy="388080"/>
            </a:xfrm>
            <a:prstGeom prst="ellipse">
              <a:avLst/>
            </a:prstGeom>
            <a:solidFill>
              <a:srgbClr val="00906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30800" y="1752480"/>
              <a:ext cx="588960" cy="533520"/>
            </a:xfrm>
            <a:prstGeom prst="ellipse">
              <a:avLst/>
            </a:prstGeom>
            <a:solidFill>
              <a:srgbClr val="00906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51920" y="1800720"/>
              <a:ext cx="642600" cy="436320"/>
            </a:xfrm>
            <a:prstGeom prst="ellipse">
              <a:avLst/>
            </a:prstGeom>
            <a:solidFill>
              <a:srgbClr val="00906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81280" y="1994760"/>
              <a:ext cx="642600" cy="436320"/>
            </a:xfrm>
            <a:prstGeom prst="ellipse">
              <a:avLst/>
            </a:prstGeom>
            <a:solidFill>
              <a:srgbClr val="00906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95480" y="2237400"/>
              <a:ext cx="642600" cy="436320"/>
            </a:xfrm>
            <a:prstGeom prst="ellipse">
              <a:avLst/>
            </a:prstGeom>
            <a:solidFill>
              <a:srgbClr val="00906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09320" y="2286000"/>
              <a:ext cx="696240" cy="533520"/>
            </a:xfrm>
            <a:prstGeom prst="ellipse">
              <a:avLst/>
            </a:prstGeom>
            <a:solidFill>
              <a:srgbClr val="00906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30800" y="2286000"/>
              <a:ext cx="696240" cy="533520"/>
            </a:xfrm>
            <a:prstGeom prst="ellipse">
              <a:avLst/>
            </a:prstGeom>
            <a:solidFill>
              <a:srgbClr val="00906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651920" y="2140200"/>
              <a:ext cx="856800" cy="533520"/>
            </a:xfrm>
            <a:prstGeom prst="ellipse">
              <a:avLst/>
            </a:prstGeom>
            <a:solidFill>
              <a:srgbClr val="00906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20120" y="1946160"/>
              <a:ext cx="642600" cy="533520"/>
            </a:xfrm>
            <a:prstGeom prst="ellipse">
              <a:avLst/>
            </a:prstGeom>
            <a:solidFill>
              <a:srgbClr val="00906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48760" y="1897920"/>
              <a:ext cx="1338840" cy="873000"/>
            </a:xfrm>
            <a:prstGeom prst="ellipse">
              <a:avLst/>
            </a:prstGeom>
            <a:solidFill>
              <a:srgbClr val="009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45000" y="1897920"/>
              <a:ext cx="910080" cy="727560"/>
            </a:xfrm>
            <a:prstGeom prst="ellipse">
              <a:avLst/>
            </a:prstGeom>
            <a:solidFill>
              <a:srgbClr val="009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116240" y="20563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124080" y="2819160"/>
            <a:ext cx="914400" cy="685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99480" y="5713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new Person(”Kalle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4120" y="3505320"/>
            <a:ext cx="137160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Kall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4120" y="3886200"/>
            <a:ext cx="137160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12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8800" y="4267080"/>
            <a:ext cx="137160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800" spc="-1" strike="noStrike">
                <a:solidFill>
                  <a:srgbClr val="ffffff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29080" y="4648320"/>
            <a:ext cx="1381320" cy="366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1800" spc="-1" strike="noStrike">
                <a:solidFill>
                  <a:srgbClr val="ffffff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8800" y="3505320"/>
            <a:ext cx="1371600" cy="1523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48120" y="51814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99880" y="5713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new Person(”Kalle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019920" y="51814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5105520" y="2742840"/>
            <a:ext cx="914400" cy="762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19720" y="5637960"/>
            <a:ext cx="47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9880" y="3505320"/>
            <a:ext cx="609840" cy="380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00: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05720" y="3505320"/>
            <a:ext cx="609480" cy="38088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00: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12400" y="2953440"/>
            <a:ext cx="1224720" cy="36828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-18638"/>
              <a:gd name="adj5" fmla="val 120018"/>
              <a:gd name="adj6" fmla="val -3243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tidsstämp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Bakgru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Java var tänkt som ett förbättrat språk för inbäddade 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nbäddade system = TV/video-apparater, diskmaskiner, mikrovågsugnar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HTML inflexibelt. Varför inte bädda in Java i HTM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Java populärt när det blev en del av Netsc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Likhet (==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Operatorn == (som i C/C++) används för likhetsjämförel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För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primitiv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typer är == sann för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samm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ärd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För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omplexa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typer är == sann för endast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samm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tidsstämpel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Likhet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1 == 1 </a:t>
            </a:r>
            <a:r>
              <a:rPr b="0" lang="sv-S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s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1 == 2 </a:t>
            </a:r>
            <a:r>
              <a:rPr b="0" lang="sv-S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fals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new Person(”Kalle”) == new Person(”Kalle”) </a:t>
            </a:r>
            <a:r>
              <a:rPr b="0" lang="sv-S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fals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abc” == ”abc” </a:t>
            </a:r>
            <a:r>
              <a:rPr b="0" lang="sv-S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sant/falskt. (Beror på sammanhanget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(false == false) == false </a:t>
            </a:r>
            <a:r>
              <a:rPr b="0" lang="sv-S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fals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(true == true) == true </a:t>
            </a:r>
            <a:r>
              <a:rPr b="0" lang="sv-S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s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Temporär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temporär är et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namn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med begränsad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livslängd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som refererar et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är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ntroduceras i koden med syntaxen: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&lt;typ&gt; &lt;namn&gt;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(ej att förväxlas med attribut i klasser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Kan användas för referera ett mellanresul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xempel: r = (1+2) + (1+2) kan beräknas som: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nt x = 1 + 2;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nt r = x + x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Lexikala bloc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t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lexikalt block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skrivs som { … 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Lexikala block kan vara nästlade: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{ … { … } … { … } … 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temporärs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livslängd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sträcker sig från dess introduktion till slutet i det lexikala block där den introducer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Lexikala block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1371600"/>
            <a:ext cx="4267080" cy="518148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int x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int y = 471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x = 17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 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int a = 1 + x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 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a = 33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a = x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int z = x + 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x = 17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838080" y="1522800"/>
            <a:ext cx="7008120" cy="4878000"/>
            <a:chOff x="838080" y="1522800"/>
            <a:chExt cx="7008120" cy="4878000"/>
          </a:xfrm>
        </p:grpSpPr>
        <p:sp>
          <p:nvSpPr>
            <p:cNvPr id="354" name=""/>
            <p:cNvSpPr/>
            <p:nvPr/>
          </p:nvSpPr>
          <p:spPr>
            <a:xfrm>
              <a:off x="2286000" y="1981080"/>
              <a:ext cx="5486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0120" y="1981080"/>
              <a:ext cx="0" cy="4419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8080" y="6400800"/>
              <a:ext cx="69343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82600" y="1522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295280" y="2208600"/>
            <a:ext cx="6017400" cy="3811320"/>
            <a:chOff x="1295280" y="2208600"/>
            <a:chExt cx="6017400" cy="3811320"/>
          </a:xfrm>
        </p:grpSpPr>
        <p:sp>
          <p:nvSpPr>
            <p:cNvPr id="359" name=""/>
            <p:cNvSpPr/>
            <p:nvPr/>
          </p:nvSpPr>
          <p:spPr>
            <a:xfrm>
              <a:off x="3581280" y="2743200"/>
              <a:ext cx="36576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86600" y="2743200"/>
              <a:ext cx="0" cy="3276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95280" y="6019920"/>
              <a:ext cx="59436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49080" y="2208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733920" y="4875840"/>
            <a:ext cx="3032640" cy="1144080"/>
            <a:chOff x="3733920" y="4875840"/>
            <a:chExt cx="3032640" cy="1144080"/>
          </a:xfrm>
        </p:grpSpPr>
        <p:sp>
          <p:nvSpPr>
            <p:cNvPr id="364" name=""/>
            <p:cNvSpPr/>
            <p:nvPr/>
          </p:nvSpPr>
          <p:spPr>
            <a:xfrm>
              <a:off x="6553080" y="5334120"/>
              <a:ext cx="0" cy="685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33920" y="5334120"/>
              <a:ext cx="29718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02960" y="4875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z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752480" y="3351600"/>
            <a:ext cx="4480560" cy="1601280"/>
            <a:chOff x="1752480" y="3351600"/>
            <a:chExt cx="4480560" cy="1601280"/>
          </a:xfrm>
        </p:grpSpPr>
        <p:sp>
          <p:nvSpPr>
            <p:cNvPr id="368" name=""/>
            <p:cNvSpPr/>
            <p:nvPr/>
          </p:nvSpPr>
          <p:spPr>
            <a:xfrm>
              <a:off x="6019920" y="3886200"/>
              <a:ext cx="0" cy="1066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91120" y="3886200"/>
              <a:ext cx="19810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52480" y="4952880"/>
              <a:ext cx="44197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69440" y="3351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638320" y="11419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Livsläng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Livslängder för </a:t>
            </a:r>
            <a:r>
              <a:rPr b="0" i="1" lang="sv-SE" sz="4400" spc="-1" strike="noStrike">
                <a:solidFill>
                  <a:srgbClr val="ffffff"/>
                </a:solidFill>
                <a:latin typeface="Times New Roman"/>
              </a:rPr>
              <a:t>värd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Kan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avgöras statiskt från programkod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t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ärd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lever vid tidpunkten t omm det finns någon möjlighet att nå det direkt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eller indirek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från någo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temporä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ärden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dynamiska enheter (= aktuella först vid körtillfälle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Temporäre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statiska enheter (= aktuella vid inspektion av programkoden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Livslängder för värden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1828800"/>
            <a:ext cx="4572000" cy="449568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Person 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Person q = new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Person(”Foo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p = q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q = new Person(”Bar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p = new Person(”Baz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24382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00" y="220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00" y="274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29718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39625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43434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00" y="411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4724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00" y="449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51055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00" y="4875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6800" y="1380240"/>
            <a:ext cx="1122480" cy="36828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-36273"/>
              <a:gd name="adj5" fmla="val 232518"/>
              <a:gd name="adj6" fmla="val -4081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tidpunk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105520" y="1370520"/>
            <a:ext cx="3352680" cy="547200"/>
            <a:chOff x="5105520" y="1370520"/>
            <a:chExt cx="3352680" cy="547200"/>
          </a:xfrm>
        </p:grpSpPr>
        <p:grpSp>
          <p:nvGrpSpPr>
            <p:cNvPr id="391" name=""/>
            <p:cNvGrpSpPr/>
            <p:nvPr/>
          </p:nvGrpSpPr>
          <p:grpSpPr>
            <a:xfrm>
              <a:off x="5182200" y="1370520"/>
              <a:ext cx="1739520" cy="547200"/>
              <a:chOff x="5182200" y="1370520"/>
              <a:chExt cx="1739520" cy="547200"/>
            </a:xfrm>
          </p:grpSpPr>
          <p:sp>
            <p:nvSpPr>
              <p:cNvPr id="392" name=""/>
              <p:cNvSpPr/>
              <p:nvPr/>
            </p:nvSpPr>
            <p:spPr>
              <a:xfrm>
                <a:off x="5182200" y="1370520"/>
                <a:ext cx="109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ff"/>
                    </a:solidFill>
                    <a:latin typeface="Times New Roman"/>
                  </a:rPr>
                  <a:t>1: { p }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67280" y="1752480"/>
                <a:ext cx="533160" cy="165240"/>
              </a:xfrm>
              <a:custGeom>
                <a:avLst/>
                <a:gdLst/>
                <a:ahLst/>
                <a:rect l="l" t="t" r="r" b="b"/>
                <a:pathLst>
                  <a:path w="336" h="104">
                    <a:moveTo>
                      <a:pt x="0" y="48"/>
                    </a:moveTo>
                    <a:cubicBezTo>
                      <a:pt x="20" y="76"/>
                      <a:pt x="40" y="104"/>
                      <a:pt x="96" y="96"/>
                    </a:cubicBezTo>
                    <a:cubicBezTo>
                      <a:pt x="152" y="88"/>
                      <a:pt x="244" y="44"/>
                      <a:pt x="336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84240" y="1415160"/>
                <a:ext cx="53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v-SE" sz="1800" spc="-1" strike="noStrike">
                    <a:solidFill>
                      <a:srgbClr val="ffffff"/>
                    </a:solidFill>
                    <a:latin typeface="Times New Roman"/>
                  </a:rPr>
                  <a:t>nu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5105520" y="137160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5105520" y="989640"/>
            <a:ext cx="3352680" cy="459720"/>
            <a:chOff x="5105520" y="989640"/>
            <a:chExt cx="3352680" cy="459720"/>
          </a:xfrm>
        </p:grpSpPr>
        <p:sp>
          <p:nvSpPr>
            <p:cNvPr id="397" name=""/>
            <p:cNvSpPr/>
            <p:nvPr/>
          </p:nvSpPr>
          <p:spPr>
            <a:xfrm>
              <a:off x="5186880" y="989640"/>
              <a:ext cx="7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0: </a:t>
              </a:r>
              <a:r>
                <a:rPr b="0" lang="sv-SE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05520" y="106668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04920" y="54864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00" y="525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105520" y="1981080"/>
            <a:ext cx="3352680" cy="839160"/>
            <a:chOff x="5105520" y="1981080"/>
            <a:chExt cx="3352680" cy="839160"/>
          </a:xfrm>
        </p:grpSpPr>
        <p:sp>
          <p:nvSpPr>
            <p:cNvPr id="402" name=""/>
            <p:cNvSpPr/>
            <p:nvPr/>
          </p:nvSpPr>
          <p:spPr>
            <a:xfrm>
              <a:off x="5182200" y="205632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2: { p, q }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67280" y="2514600"/>
              <a:ext cx="525600" cy="168120"/>
            </a:xfrm>
            <a:custGeom>
              <a:avLst/>
              <a:gdLst/>
              <a:ahLst/>
              <a:rect l="l" t="t" r="r" b="b"/>
              <a:pathLst>
                <a:path w="331" h="106">
                  <a:moveTo>
                    <a:pt x="0" y="0"/>
                  </a:moveTo>
                  <a:cubicBezTo>
                    <a:pt x="20" y="28"/>
                    <a:pt x="41" y="30"/>
                    <a:pt x="96" y="48"/>
                  </a:cubicBezTo>
                  <a:cubicBezTo>
                    <a:pt x="151" y="66"/>
                    <a:pt x="282" y="94"/>
                    <a:pt x="331" y="10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325560" y="245196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15040" y="2089080"/>
              <a:ext cx="722160" cy="131760"/>
            </a:xfrm>
            <a:custGeom>
              <a:avLst/>
              <a:gdLst/>
              <a:ahLst/>
              <a:rect l="l" t="t" r="r" b="b"/>
              <a:pathLst>
                <a:path w="455" h="83">
                  <a:moveTo>
                    <a:pt x="0" y="83"/>
                  </a:moveTo>
                  <a:cubicBezTo>
                    <a:pt x="39" y="69"/>
                    <a:pt x="156" y="12"/>
                    <a:pt x="232" y="6"/>
                  </a:cubicBezTo>
                  <a:cubicBezTo>
                    <a:pt x="308" y="0"/>
                    <a:pt x="409" y="40"/>
                    <a:pt x="455" y="49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05520" y="198108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934320" y="2101320"/>
              <a:ext cx="761760" cy="718200"/>
              <a:chOff x="6934320" y="2101320"/>
              <a:chExt cx="761760" cy="71820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6934320" y="2101320"/>
                <a:ext cx="761760" cy="718200"/>
                <a:chOff x="6934320" y="2101320"/>
                <a:chExt cx="761760" cy="718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6934320" y="213372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934320" y="236232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934320" y="259092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989400" y="2101320"/>
                  <a:ext cx="677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”</a:t>
                  </a: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Foo”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6934320" y="2133720"/>
                <a:ext cx="761760" cy="68580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5105520" y="2970720"/>
            <a:ext cx="3352680" cy="763200"/>
            <a:chOff x="5105520" y="2970720"/>
            <a:chExt cx="3352680" cy="763200"/>
          </a:xfrm>
        </p:grpSpPr>
        <p:sp>
          <p:nvSpPr>
            <p:cNvPr id="415" name=""/>
            <p:cNvSpPr/>
            <p:nvPr/>
          </p:nvSpPr>
          <p:spPr>
            <a:xfrm>
              <a:off x="5105520" y="297180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82200" y="297072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3: { p, q }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67280" y="3429000"/>
              <a:ext cx="1043280" cy="122400"/>
            </a:xfrm>
            <a:custGeom>
              <a:avLst/>
              <a:gdLst/>
              <a:ahLst/>
              <a:rect l="l" t="t" r="r" b="b"/>
              <a:pathLst>
                <a:path w="657" h="77">
                  <a:moveTo>
                    <a:pt x="0" y="0"/>
                  </a:moveTo>
                  <a:cubicBezTo>
                    <a:pt x="48" y="13"/>
                    <a:pt x="179" y="77"/>
                    <a:pt x="288" y="77"/>
                  </a:cubicBezTo>
                  <a:cubicBezTo>
                    <a:pt x="397" y="77"/>
                    <a:pt x="580" y="16"/>
                    <a:pt x="657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15040" y="3003480"/>
              <a:ext cx="722160" cy="131760"/>
            </a:xfrm>
            <a:custGeom>
              <a:avLst/>
              <a:gdLst/>
              <a:ahLst/>
              <a:rect l="l" t="t" r="r" b="b"/>
              <a:pathLst>
                <a:path w="455" h="83">
                  <a:moveTo>
                    <a:pt x="0" y="83"/>
                  </a:moveTo>
                  <a:cubicBezTo>
                    <a:pt x="39" y="69"/>
                    <a:pt x="156" y="12"/>
                    <a:pt x="232" y="6"/>
                  </a:cubicBezTo>
                  <a:cubicBezTo>
                    <a:pt x="308" y="0"/>
                    <a:pt x="409" y="40"/>
                    <a:pt x="455" y="49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6934320" y="3015720"/>
              <a:ext cx="761760" cy="718200"/>
              <a:chOff x="6934320" y="3015720"/>
              <a:chExt cx="761760" cy="71820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6934320" y="3015720"/>
                <a:ext cx="761760" cy="718200"/>
                <a:chOff x="6934320" y="3015720"/>
                <a:chExt cx="761760" cy="7182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934320" y="304812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934320" y="327672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934320" y="350532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989400" y="3015720"/>
                  <a:ext cx="677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”</a:t>
                  </a: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Foo”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6934320" y="3048120"/>
                <a:ext cx="761760" cy="68580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5105520" y="3809880"/>
            <a:ext cx="3352680" cy="914400"/>
            <a:chOff x="5105520" y="3809880"/>
            <a:chExt cx="3352680" cy="914400"/>
          </a:xfrm>
        </p:grpSpPr>
        <p:sp>
          <p:nvSpPr>
            <p:cNvPr id="427" name=""/>
            <p:cNvSpPr/>
            <p:nvPr/>
          </p:nvSpPr>
          <p:spPr>
            <a:xfrm>
              <a:off x="5182200" y="388512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4: { p, q }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67280" y="4343400"/>
              <a:ext cx="701640" cy="174600"/>
            </a:xfrm>
            <a:custGeom>
              <a:avLst/>
              <a:gdLst/>
              <a:ahLst/>
              <a:rect l="l" t="t" r="r" b="b"/>
              <a:pathLst>
                <a:path w="442" h="110">
                  <a:moveTo>
                    <a:pt x="0" y="0"/>
                  </a:moveTo>
                  <a:cubicBezTo>
                    <a:pt x="31" y="16"/>
                    <a:pt x="111" y="82"/>
                    <a:pt x="185" y="96"/>
                  </a:cubicBezTo>
                  <a:cubicBezTo>
                    <a:pt x="259" y="110"/>
                    <a:pt x="389" y="89"/>
                    <a:pt x="442" y="8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15040" y="3882960"/>
              <a:ext cx="1225440" cy="166680"/>
            </a:xfrm>
            <a:custGeom>
              <a:avLst/>
              <a:gdLst/>
              <a:ahLst/>
              <a:rect l="l" t="t" r="r" b="b"/>
              <a:pathLst>
                <a:path w="772" h="105">
                  <a:moveTo>
                    <a:pt x="0" y="105"/>
                  </a:moveTo>
                  <a:cubicBezTo>
                    <a:pt x="76" y="88"/>
                    <a:pt x="326" y="10"/>
                    <a:pt x="455" y="5"/>
                  </a:cubicBezTo>
                  <a:cubicBezTo>
                    <a:pt x="584" y="0"/>
                    <a:pt x="706" y="60"/>
                    <a:pt x="772" y="7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05520" y="380988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6553080" y="4006440"/>
              <a:ext cx="762120" cy="717480"/>
              <a:chOff x="6553080" y="4006440"/>
              <a:chExt cx="762120" cy="71748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6553080" y="4006440"/>
                <a:ext cx="762120" cy="717480"/>
                <a:chOff x="6553080" y="4006440"/>
                <a:chExt cx="762120" cy="7174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553080" y="4038480"/>
                  <a:ext cx="762120" cy="228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553080" y="4267080"/>
                  <a:ext cx="762120" cy="228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553080" y="4495680"/>
                  <a:ext cx="762120" cy="228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608880" y="4006440"/>
                  <a:ext cx="677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”</a:t>
                  </a: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Foo”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>
                <a:off x="6553080" y="4038480"/>
                <a:ext cx="762120" cy="68544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7467480" y="4006440"/>
              <a:ext cx="761760" cy="717840"/>
              <a:chOff x="7467480" y="4006440"/>
              <a:chExt cx="761760" cy="71784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7467480" y="4006440"/>
                <a:ext cx="761760" cy="717840"/>
                <a:chOff x="7467480" y="4006440"/>
                <a:chExt cx="761760" cy="71784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467480" y="403848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467480" y="426708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467480" y="449568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536600" y="4006440"/>
                  <a:ext cx="65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”</a:t>
                  </a: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Bar”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7467480" y="4038480"/>
                <a:ext cx="761760" cy="68580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5" name=""/>
          <p:cNvGrpSpPr/>
          <p:nvPr/>
        </p:nvGrpSpPr>
        <p:grpSpPr>
          <a:xfrm>
            <a:off x="5105520" y="4799520"/>
            <a:ext cx="3352680" cy="839160"/>
            <a:chOff x="5105520" y="4799520"/>
            <a:chExt cx="3352680" cy="839160"/>
          </a:xfrm>
        </p:grpSpPr>
        <p:sp>
          <p:nvSpPr>
            <p:cNvPr id="446" name=""/>
            <p:cNvSpPr/>
            <p:nvPr/>
          </p:nvSpPr>
          <p:spPr>
            <a:xfrm>
              <a:off x="5105520" y="487692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82200" y="479952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5: { p }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67280" y="5181480"/>
              <a:ext cx="701640" cy="174600"/>
            </a:xfrm>
            <a:custGeom>
              <a:avLst/>
              <a:gdLst/>
              <a:ahLst/>
              <a:rect l="l" t="t" r="r" b="b"/>
              <a:pathLst>
                <a:path w="442" h="110">
                  <a:moveTo>
                    <a:pt x="0" y="0"/>
                  </a:moveTo>
                  <a:cubicBezTo>
                    <a:pt x="31" y="16"/>
                    <a:pt x="111" y="82"/>
                    <a:pt x="185" y="96"/>
                  </a:cubicBezTo>
                  <a:cubicBezTo>
                    <a:pt x="259" y="110"/>
                    <a:pt x="389" y="89"/>
                    <a:pt x="442" y="8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6553080" y="4920840"/>
              <a:ext cx="762120" cy="717480"/>
              <a:chOff x="6553080" y="4920840"/>
              <a:chExt cx="762120" cy="71748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6553080" y="4920840"/>
                <a:ext cx="762120" cy="717480"/>
                <a:chOff x="6553080" y="4920840"/>
                <a:chExt cx="762120" cy="7174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553080" y="4952880"/>
                  <a:ext cx="762120" cy="228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553080" y="5181480"/>
                  <a:ext cx="762120" cy="228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553080" y="5410080"/>
                  <a:ext cx="762120" cy="228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608880" y="4920840"/>
                  <a:ext cx="677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”</a:t>
                  </a: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Foo”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6553080" y="4952880"/>
                <a:ext cx="762120" cy="68544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7467480" y="4920840"/>
              <a:ext cx="761760" cy="717840"/>
              <a:chOff x="7467480" y="4920840"/>
              <a:chExt cx="761760" cy="71784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7467480" y="4920840"/>
                <a:ext cx="761760" cy="717840"/>
                <a:chOff x="7467480" y="4920840"/>
                <a:chExt cx="761760" cy="71784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7467480" y="495288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467480" y="518148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467480" y="541008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536600" y="4920840"/>
                  <a:ext cx="65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”</a:t>
                  </a: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Bar”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7467480" y="4952880"/>
                <a:ext cx="761760" cy="68580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7391520" y="5105520"/>
              <a:ext cx="914400" cy="457200"/>
              <a:chOff x="7391520" y="5105520"/>
              <a:chExt cx="914400" cy="457200"/>
            </a:xfrm>
          </p:grpSpPr>
          <p:sp>
            <p:nvSpPr>
              <p:cNvPr id="464" name=""/>
              <p:cNvSpPr/>
              <p:nvPr/>
            </p:nvSpPr>
            <p:spPr>
              <a:xfrm flipH="1">
                <a:off x="7391520" y="5105520"/>
                <a:ext cx="91440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391520" y="5105520"/>
                <a:ext cx="91440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5105520" y="5713920"/>
            <a:ext cx="4114800" cy="763200"/>
            <a:chOff x="5105520" y="5713920"/>
            <a:chExt cx="4114800" cy="763200"/>
          </a:xfrm>
        </p:grpSpPr>
        <p:sp>
          <p:nvSpPr>
            <p:cNvPr id="467" name=""/>
            <p:cNvSpPr/>
            <p:nvPr/>
          </p:nvSpPr>
          <p:spPr>
            <a:xfrm>
              <a:off x="5105520" y="571500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82200" y="571392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6: { p }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29200" y="6068880"/>
              <a:ext cx="586080" cy="223920"/>
            </a:xfrm>
            <a:custGeom>
              <a:avLst/>
              <a:gdLst/>
              <a:ahLst/>
              <a:rect l="l" t="t" r="r" b="b"/>
              <a:pathLst>
                <a:path w="369" h="141">
                  <a:moveTo>
                    <a:pt x="0" y="26"/>
                  </a:moveTo>
                  <a:cubicBezTo>
                    <a:pt x="18" y="46"/>
                    <a:pt x="47" y="141"/>
                    <a:pt x="108" y="137"/>
                  </a:cubicBezTo>
                  <a:cubicBezTo>
                    <a:pt x="169" y="133"/>
                    <a:pt x="315" y="29"/>
                    <a:pt x="369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553080" y="5714640"/>
              <a:ext cx="761760" cy="762480"/>
              <a:chOff x="6553080" y="5714640"/>
              <a:chExt cx="761760" cy="76248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6553080" y="5714640"/>
                <a:ext cx="761760" cy="762480"/>
                <a:chOff x="6553080" y="5714640"/>
                <a:chExt cx="761760" cy="7624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6553080" y="579132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553080" y="601992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553080" y="624852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11040" y="5714640"/>
                  <a:ext cx="676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”</a:t>
                  </a: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Baz”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>
                <a:off x="6553080" y="5791320"/>
                <a:ext cx="761760" cy="68580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7467480" y="5758920"/>
              <a:ext cx="762120" cy="718200"/>
              <a:chOff x="7467480" y="5758920"/>
              <a:chExt cx="762120" cy="71820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7467480" y="5758920"/>
                <a:ext cx="762120" cy="718200"/>
                <a:chOff x="7467480" y="5758920"/>
                <a:chExt cx="762120" cy="7182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7467480" y="5791320"/>
                  <a:ext cx="76212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467480" y="6019920"/>
                  <a:ext cx="76212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7467480" y="6248520"/>
                  <a:ext cx="76212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523280" y="5758920"/>
                  <a:ext cx="677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”</a:t>
                  </a: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Foo”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7467480" y="5791320"/>
                <a:ext cx="762120" cy="68580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8381880" y="5758920"/>
              <a:ext cx="761760" cy="717840"/>
              <a:chOff x="8381880" y="5758920"/>
              <a:chExt cx="761760" cy="71784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8381880" y="5758920"/>
                <a:ext cx="761760" cy="717840"/>
                <a:chOff x="8381880" y="5758920"/>
                <a:chExt cx="761760" cy="7178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381880" y="579096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8381880" y="601956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8381880" y="6248160"/>
                  <a:ext cx="761760" cy="2286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8451000" y="5758920"/>
                  <a:ext cx="65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”</a:t>
                  </a:r>
                  <a:r>
                    <a:rPr b="0" lang="sv-SE" sz="1600" spc="-1" strike="noStrike">
                      <a:solidFill>
                        <a:srgbClr val="ffffff"/>
                      </a:solidFill>
                      <a:latin typeface="Times New Roman"/>
                    </a:rPr>
                    <a:t>Bar”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0" name=""/>
              <p:cNvSpPr/>
              <p:nvPr/>
            </p:nvSpPr>
            <p:spPr>
              <a:xfrm>
                <a:off x="8381880" y="5790960"/>
                <a:ext cx="761760" cy="68580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7391520" y="6019920"/>
              <a:ext cx="914400" cy="457200"/>
              <a:chOff x="7391520" y="6019920"/>
              <a:chExt cx="914400" cy="457200"/>
            </a:xfrm>
          </p:grpSpPr>
          <p:sp>
            <p:nvSpPr>
              <p:cNvPr id="492" name=""/>
              <p:cNvSpPr/>
              <p:nvPr/>
            </p:nvSpPr>
            <p:spPr>
              <a:xfrm flipH="1">
                <a:off x="7391520" y="6019920"/>
                <a:ext cx="91440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391520" y="6019920"/>
                <a:ext cx="91440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8305920" y="6019920"/>
              <a:ext cx="914400" cy="457200"/>
              <a:chOff x="8305920" y="6019920"/>
              <a:chExt cx="914400" cy="457200"/>
            </a:xfrm>
          </p:grpSpPr>
          <p:sp>
            <p:nvSpPr>
              <p:cNvPr id="495" name=""/>
              <p:cNvSpPr/>
              <p:nvPr/>
            </p:nvSpPr>
            <p:spPr>
              <a:xfrm flipH="1">
                <a:off x="8305920" y="6019920"/>
                <a:ext cx="91440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305920" y="6019920"/>
                <a:ext cx="91440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Livslängder för värden (3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1828800"/>
            <a:ext cx="4572000" cy="449568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Person </a:t>
            </a:r>
            <a:r>
              <a:rPr b="0" lang="sv-SE" sz="2000" spc="-1" strike="noStrike">
                <a:solidFill>
                  <a:srgbClr val="ff3300"/>
                </a:solidFill>
                <a:latin typeface="Lucida Console"/>
              </a:rPr>
              <a:t>p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Person </a:t>
            </a:r>
            <a:r>
              <a:rPr b="0" lang="sv-SE" sz="2000" spc="-1" strike="noStrike">
                <a:solidFill>
                  <a:srgbClr val="00ff00"/>
                </a:solidFill>
                <a:latin typeface="Lucida Console"/>
              </a:rPr>
              <a:t>q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= new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Person(”</a:t>
            </a:r>
            <a:r>
              <a:rPr b="0" lang="sv-SE" sz="2000" spc="-1" strike="noStrike">
                <a:solidFill>
                  <a:srgbClr val="ffff00"/>
                </a:solidFill>
                <a:latin typeface="Lucida Console"/>
              </a:rPr>
              <a:t>Foo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sv-SE" sz="2000" spc="-1" strike="noStrike">
                <a:solidFill>
                  <a:srgbClr val="ff3300"/>
                </a:solidFill>
                <a:latin typeface="Lucida Console"/>
              </a:rPr>
              <a:t>p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= </a:t>
            </a:r>
            <a:r>
              <a:rPr b="0" lang="sv-SE" sz="2000" spc="-1" strike="noStrike">
                <a:solidFill>
                  <a:srgbClr val="00ff00"/>
                </a:solidFill>
                <a:latin typeface="Lucida Console"/>
              </a:rPr>
              <a:t>q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sv-SE" sz="2000" spc="-1" strike="noStrike">
                <a:solidFill>
                  <a:srgbClr val="00ff00"/>
                </a:solidFill>
                <a:latin typeface="Lucida Console"/>
              </a:rPr>
              <a:t>q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= new Person(”</a:t>
            </a:r>
            <a:r>
              <a:rPr b="0" lang="sv-SE" sz="2000" spc="-1" strike="noStrike">
                <a:solidFill>
                  <a:srgbClr val="996600"/>
                </a:solidFill>
                <a:latin typeface="Lucida Console"/>
              </a:rPr>
              <a:t>Bar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3300"/>
                </a:solidFill>
                <a:latin typeface="Lucida Console"/>
              </a:rPr>
              <a:t>p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= new Person(”</a:t>
            </a:r>
            <a:r>
              <a:rPr b="0" lang="sv-SE" sz="2000" spc="-1" strike="noStrike">
                <a:solidFill>
                  <a:srgbClr val="ff9900"/>
                </a:solidFill>
                <a:latin typeface="Lucida Console"/>
              </a:rPr>
              <a:t>Baz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62120" y="2284920"/>
            <a:ext cx="7696080" cy="3658680"/>
            <a:chOff x="762120" y="2284920"/>
            <a:chExt cx="7696080" cy="3658680"/>
          </a:xfrm>
        </p:grpSpPr>
        <p:grpSp>
          <p:nvGrpSpPr>
            <p:cNvPr id="500" name=""/>
            <p:cNvGrpSpPr/>
            <p:nvPr/>
          </p:nvGrpSpPr>
          <p:grpSpPr>
            <a:xfrm>
              <a:off x="762120" y="2819520"/>
              <a:ext cx="7696080" cy="3124080"/>
              <a:chOff x="762120" y="2819520"/>
              <a:chExt cx="7696080" cy="3124080"/>
            </a:xfrm>
          </p:grpSpPr>
          <p:sp>
            <p:nvSpPr>
              <p:cNvPr id="501" name=""/>
              <p:cNvSpPr/>
              <p:nvPr/>
            </p:nvSpPr>
            <p:spPr>
              <a:xfrm>
                <a:off x="2438280" y="2819520"/>
                <a:ext cx="3810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95880" y="2819520"/>
                <a:ext cx="0" cy="3124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62120" y="5943600"/>
                <a:ext cx="7696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945760" y="228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3300"/>
                  </a:solidFill>
                  <a:latin typeface="Lucida Console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219320" y="2970720"/>
            <a:ext cx="6781680" cy="1906200"/>
            <a:chOff x="1219320" y="2970720"/>
            <a:chExt cx="6781680" cy="1906200"/>
          </a:xfrm>
        </p:grpSpPr>
        <p:sp>
          <p:nvSpPr>
            <p:cNvPr id="506" name=""/>
            <p:cNvSpPr/>
            <p:nvPr/>
          </p:nvSpPr>
          <p:spPr>
            <a:xfrm>
              <a:off x="3733920" y="3505320"/>
              <a:ext cx="3886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19320" y="4876920"/>
              <a:ext cx="6781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62720" y="3505320"/>
              <a:ext cx="0" cy="13716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12240" y="2970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ff00"/>
                  </a:solidFill>
                  <a:latin typeface="Lucida Console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800600" y="4113720"/>
            <a:ext cx="3425400" cy="763200"/>
            <a:chOff x="4800600" y="4113720"/>
            <a:chExt cx="3425400" cy="763200"/>
          </a:xfrm>
        </p:grpSpPr>
        <p:sp>
          <p:nvSpPr>
            <p:cNvPr id="511" name=""/>
            <p:cNvSpPr/>
            <p:nvPr/>
          </p:nvSpPr>
          <p:spPr>
            <a:xfrm>
              <a:off x="7848720" y="4572000"/>
              <a:ext cx="0" cy="304920"/>
            </a:xfrm>
            <a:prstGeom prst="line">
              <a:avLst/>
            </a:prstGeom>
            <a:ln w="25560">
              <a:solidFill>
                <a:srgbClr val="9966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00600" y="4572000"/>
              <a:ext cx="3200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96640" y="411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996600"/>
                  </a:solidFill>
                  <a:latin typeface="Lucida Console"/>
                </a:rPr>
                <a:t>b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4419720" y="3047040"/>
            <a:ext cx="4038480" cy="2210760"/>
            <a:chOff x="4419720" y="3047040"/>
            <a:chExt cx="4038480" cy="2210760"/>
          </a:xfrm>
        </p:grpSpPr>
        <p:grpSp>
          <p:nvGrpSpPr>
            <p:cNvPr id="515" name=""/>
            <p:cNvGrpSpPr/>
            <p:nvPr/>
          </p:nvGrpSpPr>
          <p:grpSpPr>
            <a:xfrm>
              <a:off x="6982200" y="3047040"/>
              <a:ext cx="729360" cy="2210760"/>
              <a:chOff x="6982200" y="3047040"/>
              <a:chExt cx="729360" cy="2210760"/>
            </a:xfrm>
          </p:grpSpPr>
          <p:sp>
            <p:nvSpPr>
              <p:cNvPr id="516" name=""/>
              <p:cNvSpPr/>
              <p:nvPr/>
            </p:nvSpPr>
            <p:spPr>
              <a:xfrm>
                <a:off x="7315200" y="3505320"/>
                <a:ext cx="0" cy="175248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982200" y="304704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00"/>
                    </a:solidFill>
                    <a:latin typeface="Lucida Console"/>
                  </a:rPr>
                  <a:t>foo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4419720" y="5257800"/>
              <a:ext cx="4038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8004600" y="4723200"/>
            <a:ext cx="729360" cy="1220400"/>
            <a:chOff x="8004600" y="4723200"/>
            <a:chExt cx="729360" cy="1220400"/>
          </a:xfrm>
        </p:grpSpPr>
        <p:sp>
          <p:nvSpPr>
            <p:cNvPr id="520" name=""/>
            <p:cNvSpPr/>
            <p:nvPr/>
          </p:nvSpPr>
          <p:spPr>
            <a:xfrm>
              <a:off x="8305920" y="5257800"/>
              <a:ext cx="0" cy="68580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04600" y="4723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9900"/>
                  </a:solidFill>
                  <a:latin typeface="Lucida Console"/>
                </a:rPr>
                <a:t>baz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183640" y="1600200"/>
            <a:ext cx="3274200" cy="5029200"/>
            <a:chOff x="5183640" y="1600200"/>
            <a:chExt cx="3274200" cy="5029200"/>
          </a:xfrm>
        </p:grpSpPr>
        <p:sp>
          <p:nvSpPr>
            <p:cNvPr id="523" name=""/>
            <p:cNvSpPr/>
            <p:nvPr/>
          </p:nvSpPr>
          <p:spPr>
            <a:xfrm>
              <a:off x="5183640" y="182772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400" spc="-1" strike="noStrike">
                  <a:solidFill>
                    <a:srgbClr val="ffffff"/>
                  </a:solidFill>
                  <a:latin typeface="Times New Roman"/>
                </a:rPr>
                <a:t>Temporär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11720" y="182772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2400" spc="-1" strike="noStrike">
                  <a:solidFill>
                    <a:srgbClr val="ffffff"/>
                  </a:solidFill>
                  <a:latin typeface="Times New Roman"/>
                </a:rPr>
                <a:t>Värd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34320" y="1600200"/>
              <a:ext cx="0" cy="502920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410080" y="6629400"/>
              <a:ext cx="152424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933960" y="1600200"/>
              <a:ext cx="15238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Objektorienterad programm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Låt objekten (data) vara i centr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Objekten kommunicerar via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meddeland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 Java används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metod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som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tolk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för ett meddelande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t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metodanrop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skickar ett meddelan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t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var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på ett meddelande kännetecknas av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returvärde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av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metodanrope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 Java är alla meddeland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ynkron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; varje metodanrop väntar på sitt sv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God programmerings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Tolkningen av ett meddelande bör endast förändra det aktuella objektet (inga andr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Data i objektet bör alltid hållas hemlig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Påverkan och information om objektet sker alltid via meddeland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tt meddelande som påverkar ett objekt bör inte lämna något svar (returvärd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Största fördela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nga peka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utomatisk minneshante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äldefiniera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Jättestort standardbibliot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Portabel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Kompakt maskink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Öppet system (= Källkod tillgängligt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920" y="1066680"/>
            <a:ext cx="5257800" cy="54104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Koordin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double cx, c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Koordinat(double x0, double y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setX(x0); setY(y0)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double x() { return cx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double y() { return cy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void sättX( double x0 ) { cx = x0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void sättY( double y0 ) { cy = y0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double längd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return sqrt(x()*x() + y()*y())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void addera( Koordinat annan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sättX( x() + annan.x()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ättY( y() + annan.y() )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15000" y="1066680"/>
            <a:ext cx="3200400" cy="36576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Koordinat k1 =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new Koordinat(1,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Koordinat k2 =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new Koordinat(3,4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double z =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k1.längd()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k2.längd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k1.addera( k2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Representationsoberoende prog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Referera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drig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till attribut (data) direk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nvänd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tid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metodanr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Sträva efter att ha så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få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metoder som möjligt som refererar attribut (dat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Fördelar: Vi kan byta datarepresentation, utan att ändra i resten av programm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Fördelar: Datarepresentationen kan till och med bytas under programexekvering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4920" y="762120"/>
            <a:ext cx="5257800" cy="60195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Koordin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double cr, c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Koordinat(double x0, dobule y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sättX(x0); sättY(y0); }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double x() { return cr * cos(ca)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double y() { return cr * sin(ca)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void sättX( double x0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{ cr = sqrt(x0*x0 + y()*y()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      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ca = arg(x0,y())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void sättY( double y0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{ cr = sqrt(x()*x() + y0*y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      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ca = arg(x(),y0)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double längd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return sqrt(x()*x()+y()*y()); }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void addera( Koordinat annan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sättX( x() + annan.x()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ättY( y() + annan.y() )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715000" y="761760"/>
            <a:ext cx="3200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Vi byter till polär represent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ffff00"/>
                </a:solidFill>
                <a:latin typeface="Times New Roman"/>
              </a:rPr>
              <a:t>gul</a:t>
            </a:r>
            <a:r>
              <a:rPr b="0" lang="sv-SE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färg markerar förändring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Fördel: Få förändring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Nackdel: Eventuell prestandaförsäm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Repr. ober. programmering lönar sig i längden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Ar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klass ka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ärv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alla attribut och metoder från en annan k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ärvd klass är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utökning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av en annan k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 Java ärvs klasser med </a:t>
            </a:r>
            <a:r>
              <a:rPr b="0" lang="sv-SE" sz="3200" spc="-1" strike="noStrike">
                <a:solidFill>
                  <a:srgbClr val="ffffff"/>
                </a:solidFill>
                <a:latin typeface="Lucida Console"/>
              </a:rPr>
              <a:t>extends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Begränsning: Endast en klass får ärvas per klass (singelt arv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Kort om Jav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this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i en metod refererar det aktuella objekt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upe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i en metod refererar det aktuella objektet, men endast de attribut/metoder som ärv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1828800"/>
            <a:ext cx="4267080" cy="37339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Punk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nt   x, 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nkt( int x0, int y0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x = x0; y = y0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void flytta( int dx, int dy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x = x + dx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y = y + dy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648320" y="1828800"/>
            <a:ext cx="4267080" cy="37339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Linje extends Punk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nt   x2, y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Linje( int x0, int y0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nt x1, int y1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super(x0, y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x2 = x1; y2 = y1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Kör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57400" y="1752480"/>
            <a:ext cx="4800600" cy="17528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Linje l = new Linje(20,10,30,4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l.flytta( 30, 0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95480" y="38862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95480" y="38862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3809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7600" y="3809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3809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19720" y="3809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800600" y="3809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81480" y="3809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562720" y="3809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81952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19520" y="46483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19520" y="502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5410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57913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897640" y="3962160"/>
            <a:ext cx="1140840" cy="1676880"/>
            <a:chOff x="2897640" y="3962160"/>
            <a:chExt cx="1140840" cy="1676880"/>
          </a:xfrm>
        </p:grpSpPr>
        <p:sp>
          <p:nvSpPr>
            <p:cNvPr id="564" name=""/>
            <p:cNvSpPr/>
            <p:nvPr/>
          </p:nvSpPr>
          <p:spPr>
            <a:xfrm>
              <a:off x="3657600" y="4267080"/>
              <a:ext cx="380880" cy="1143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97640" y="3962160"/>
              <a:ext cx="77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ff"/>
                  </a:solidFill>
                  <a:latin typeface="Times New Roman"/>
                </a:rPr>
                <a:t>(20,10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62680" y="5301720"/>
              <a:ext cx="77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ff"/>
                  </a:solidFill>
                  <a:latin typeface="Times New Roman"/>
                </a:rPr>
                <a:t>(30,40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657600" y="3962160"/>
            <a:ext cx="1918800" cy="1447920"/>
            <a:chOff x="3657600" y="3962160"/>
            <a:chExt cx="1918800" cy="1447920"/>
          </a:xfrm>
        </p:grpSpPr>
        <p:sp>
          <p:nvSpPr>
            <p:cNvPr id="568" name=""/>
            <p:cNvSpPr/>
            <p:nvPr/>
          </p:nvSpPr>
          <p:spPr>
            <a:xfrm>
              <a:off x="3657600" y="426708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4038120" y="4267080"/>
              <a:ext cx="762120" cy="1143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02760" y="4114440"/>
              <a:ext cx="77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ff"/>
                  </a:solidFill>
                  <a:latin typeface="Times New Roman"/>
                </a:rPr>
                <a:t>(50,10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63600" y="3962160"/>
              <a:ext cx="4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ff"/>
                  </a:solidFill>
                  <a:latin typeface="Times New Roman"/>
                </a:rPr>
                <a:t>+3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lltså: Ärvda metoder kan bete sig märkligt i den nya klass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i ka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omdefinier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en metod genom att definiera en ny metod med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samma namn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upe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kan användas för att referera den ursprungliga metod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Omdefinition av met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14400" y="1752480"/>
            <a:ext cx="4191120" cy="48006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Linje extends Punk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nt   x2, y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Linje( int x0, int y0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nt x1, int y1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super(x0, y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x2 = x1; y2 = y1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void flytta( int dx, int dy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super.flytta(dx,d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x2 = x2 + dx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y2 = y2 + d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410080" y="1752480"/>
            <a:ext cx="3200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ffff00"/>
                </a:solidFill>
                <a:latin typeface="Times New Roman"/>
              </a:rPr>
              <a:t>gul</a:t>
            </a:r>
            <a:r>
              <a:rPr b="0" lang="sv-SE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färg markerar förändring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Metod </a:t>
            </a:r>
            <a:r>
              <a:rPr b="1" lang="sv-SE" sz="1800" spc="-1" strike="noStrike">
                <a:solidFill>
                  <a:srgbClr val="ffff00"/>
                </a:solidFill>
                <a:latin typeface="Lucida Console"/>
              </a:rPr>
              <a:t>flytta</a:t>
            </a:r>
            <a:r>
              <a:rPr b="1" lang="sv-SE" sz="2000" spc="-1" strike="noStrike">
                <a:solidFill>
                  <a:srgbClr val="ffff00"/>
                </a:solidFill>
                <a:latin typeface="Lucida Console"/>
              </a:rPr>
              <a:t> 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Punkt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omdefinier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super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används för att vara repr. ob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Kör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752480"/>
            <a:ext cx="4800600" cy="17528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Linje l = new Linje(20,10,30,4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l.flytta( 30, 0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95480" y="38862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38862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3809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3809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038480" y="3809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419720" y="3809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00600" y="3809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181480" y="3809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562720" y="3809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46483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502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19520" y="5410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57913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897640" y="3962160"/>
            <a:ext cx="1140840" cy="1676880"/>
            <a:chOff x="2897640" y="3962160"/>
            <a:chExt cx="1140840" cy="1676880"/>
          </a:xfrm>
        </p:grpSpPr>
        <p:sp>
          <p:nvSpPr>
            <p:cNvPr id="594" name=""/>
            <p:cNvSpPr/>
            <p:nvPr/>
          </p:nvSpPr>
          <p:spPr>
            <a:xfrm>
              <a:off x="3657600" y="4267080"/>
              <a:ext cx="380880" cy="1143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97640" y="3962160"/>
              <a:ext cx="77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ff"/>
                  </a:solidFill>
                  <a:latin typeface="Times New Roman"/>
                </a:rPr>
                <a:t>(20,10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62680" y="5301720"/>
              <a:ext cx="77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ff"/>
                  </a:solidFill>
                  <a:latin typeface="Times New Roman"/>
                </a:rPr>
                <a:t>(30,40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3657600" y="3962160"/>
            <a:ext cx="1918800" cy="1447920"/>
            <a:chOff x="3657600" y="3962160"/>
            <a:chExt cx="1918800" cy="1447920"/>
          </a:xfrm>
        </p:grpSpPr>
        <p:sp>
          <p:nvSpPr>
            <p:cNvPr id="598" name=""/>
            <p:cNvSpPr/>
            <p:nvPr/>
          </p:nvSpPr>
          <p:spPr>
            <a:xfrm>
              <a:off x="3963600" y="3962160"/>
              <a:ext cx="4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ffffff"/>
                  </a:solidFill>
                  <a:latin typeface="Times New Roman"/>
                </a:rPr>
                <a:t>+3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3657600" y="4114440"/>
              <a:ext cx="1918800" cy="1295640"/>
              <a:chOff x="3657600" y="4114440"/>
              <a:chExt cx="1918800" cy="1295640"/>
            </a:xfrm>
          </p:grpSpPr>
          <p:sp>
            <p:nvSpPr>
              <p:cNvPr id="600" name=""/>
              <p:cNvSpPr/>
              <p:nvPr/>
            </p:nvSpPr>
            <p:spPr>
              <a:xfrm>
                <a:off x="3657600" y="4267080"/>
                <a:ext cx="1066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802760" y="4114440"/>
                <a:ext cx="77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600" spc="-1" strike="noStrike">
                    <a:solidFill>
                      <a:srgbClr val="ffffff"/>
                    </a:solidFill>
                    <a:latin typeface="Times New Roman"/>
                  </a:rPr>
                  <a:t>(50,10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800600" y="4267080"/>
                <a:ext cx="380880" cy="1143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038480" y="5410080"/>
                <a:ext cx="1067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Största nackdelar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bland segt (speciellt grafik + gränssnit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Kompilatorer ännu inte tillräckligt bra (= snabbare kod kan göras i C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Begränsningar i OO. T ex Eiffel (ett annat OO-språk) kraftfull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Polymorfis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klass Y som ärver en klass X är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utökning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av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ärden i en klass Y är även värden i en klass X. Varfö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tt Y-värde kan alltid projiceras på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lla värden i Y är därför värden av typ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Det omvända gäller dock ej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Polymorfism = något med flera form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467480" y="303840"/>
            <a:ext cx="1295640" cy="1829880"/>
            <a:chOff x="7467480" y="303840"/>
            <a:chExt cx="1295640" cy="1829880"/>
          </a:xfrm>
        </p:grpSpPr>
        <p:sp>
          <p:nvSpPr>
            <p:cNvPr id="607" name=""/>
            <p:cNvSpPr/>
            <p:nvPr/>
          </p:nvSpPr>
          <p:spPr>
            <a:xfrm>
              <a:off x="7467480" y="1143000"/>
              <a:ext cx="1295640" cy="9907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304920"/>
              <a:ext cx="685800" cy="4572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98240" y="303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1219320"/>
              <a:ext cx="685800" cy="4572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98240" y="1218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924680" y="7621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079480" y="1599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Linje är en utökning av Punk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linje är även en punkt; den ena ändpunkt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71640" y="3981600"/>
            <a:ext cx="4800600" cy="175248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Linje l = new Linje(20,10,30,4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l.flytta( 30, 0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4476600"/>
            <a:ext cx="990360" cy="1981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06520" y="1752480"/>
            <a:ext cx="4800600" cy="17528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Linje l = new Linje(20,10,30,7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nkt p = 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2261880" y="3852720"/>
            <a:ext cx="1994040" cy="1363320"/>
            <a:chOff x="2261880" y="3852720"/>
            <a:chExt cx="1994040" cy="1363320"/>
          </a:xfrm>
        </p:grpSpPr>
        <p:grpSp>
          <p:nvGrpSpPr>
            <p:cNvPr id="621" name=""/>
            <p:cNvGrpSpPr/>
            <p:nvPr/>
          </p:nvGrpSpPr>
          <p:grpSpPr>
            <a:xfrm>
              <a:off x="2261880" y="3852720"/>
              <a:ext cx="698760" cy="1010880"/>
              <a:chOff x="2261880" y="3852720"/>
              <a:chExt cx="698760" cy="1010880"/>
            </a:xfrm>
          </p:grpSpPr>
          <p:sp>
            <p:nvSpPr>
              <p:cNvPr id="622" name=""/>
              <p:cNvSpPr/>
              <p:nvPr/>
            </p:nvSpPr>
            <p:spPr>
              <a:xfrm flipH="1">
                <a:off x="2552040" y="4187880"/>
                <a:ext cx="306360" cy="303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552400" y="4491000"/>
                <a:ext cx="30492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261880" y="4127400"/>
                <a:ext cx="609480" cy="73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158" y="3960"/>
                    </a:moveTo>
                    <a:arcTo wR="10800" hR="10800" stAng="-2357585" swAng="23575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158" y="3960"/>
                    </a:moveTo>
                    <a:arcTo wR="10800" hR="10800" stAng="-2357585" swAng="2357585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2261880" y="4122000"/>
                <a:ext cx="609480" cy="73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158" y="3960"/>
                    </a:moveTo>
                    <a:arcTo wR="10800" hR="10800" stAng="-2357585" swAng="23575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158" y="3960"/>
                    </a:moveTo>
                    <a:arcTo wR="10800" hR="10800" stAng="-2357585" swAng="2357585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795400" y="4352760"/>
                <a:ext cx="76320" cy="30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06600" y="3852720"/>
                <a:ext cx="554040" cy="260640"/>
              </a:xfrm>
              <a:custGeom>
                <a:avLst/>
                <a:gdLst/>
                <a:ahLst/>
                <a:rect l="l" t="t" r="r" b="b"/>
                <a:pathLst>
                  <a:path w="349" h="164">
                    <a:moveTo>
                      <a:pt x="349" y="59"/>
                    </a:moveTo>
                    <a:cubicBezTo>
                      <a:pt x="331" y="52"/>
                      <a:pt x="298" y="0"/>
                      <a:pt x="240" y="18"/>
                    </a:cubicBezTo>
                    <a:cubicBezTo>
                      <a:pt x="182" y="36"/>
                      <a:pt x="50" y="134"/>
                      <a:pt x="0" y="164"/>
                    </a:cubicBezTo>
                  </a:path>
                </a:pathLst>
              </a:custGeom>
              <a:noFill/>
              <a:ln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V="1">
              <a:off x="2922480" y="4028760"/>
              <a:ext cx="1333440" cy="406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17800" y="4549680"/>
              <a:ext cx="1332000" cy="27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495880" y="4634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ffffff"/>
                  </a:solidFill>
                  <a:latin typeface="Lucida Console"/>
                </a:rPr>
                <a:t>p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3733560" y="4029120"/>
            <a:ext cx="3436560" cy="2665440"/>
            <a:chOff x="3733560" y="4029120"/>
            <a:chExt cx="3436560" cy="2665440"/>
          </a:xfrm>
        </p:grpSpPr>
        <p:grpSp>
          <p:nvGrpSpPr>
            <p:cNvPr id="632" name=""/>
            <p:cNvGrpSpPr/>
            <p:nvPr/>
          </p:nvGrpSpPr>
          <p:grpSpPr>
            <a:xfrm>
              <a:off x="6471720" y="4467240"/>
              <a:ext cx="698400" cy="1010880"/>
              <a:chOff x="6471720" y="4467240"/>
              <a:chExt cx="698400" cy="1010880"/>
            </a:xfrm>
          </p:grpSpPr>
          <p:sp>
            <p:nvSpPr>
              <p:cNvPr id="633" name=""/>
              <p:cNvSpPr/>
              <p:nvPr/>
            </p:nvSpPr>
            <p:spPr>
              <a:xfrm flipH="1">
                <a:off x="6546960" y="5105520"/>
                <a:ext cx="304560" cy="30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6560280" y="4741920"/>
                <a:ext cx="609480" cy="73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158" y="3960"/>
                    </a:moveTo>
                    <a:arcTo wR="10800" hR="10800" stAng="-2357585" swAng="23575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158" y="3960"/>
                    </a:moveTo>
                    <a:arcTo wR="10800" hR="10800" stAng="-2357585" swAng="2357585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>
                <a:off x="6560280" y="4736520"/>
                <a:ext cx="609480" cy="73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158" y="3960"/>
                    </a:moveTo>
                    <a:arcTo wR="10800" hR="10800" stAng="-2357585" swAng="23575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158" y="3960"/>
                    </a:moveTo>
                    <a:arcTo wR="10800" hR="10800" stAng="-2357585" swAng="2357585"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6575400" y="4967280"/>
                <a:ext cx="76320" cy="30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6471360" y="4467240"/>
                <a:ext cx="554040" cy="260280"/>
              </a:xfrm>
              <a:custGeom>
                <a:avLst/>
                <a:gdLst/>
                <a:ahLst/>
                <a:rect l="l" t="t" r="r" b="b"/>
                <a:pathLst>
                  <a:path w="349" h="164">
                    <a:moveTo>
                      <a:pt x="349" y="59"/>
                    </a:moveTo>
                    <a:cubicBezTo>
                      <a:pt x="331" y="52"/>
                      <a:pt x="298" y="0"/>
                      <a:pt x="240" y="18"/>
                    </a:cubicBezTo>
                    <a:cubicBezTo>
                      <a:pt x="182" y="36"/>
                      <a:pt x="50" y="134"/>
                      <a:pt x="0" y="164"/>
                    </a:cubicBezTo>
                  </a:path>
                </a:pathLst>
              </a:custGeom>
              <a:noFill/>
              <a:ln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>
                <a:off x="6555960" y="4800240"/>
                <a:ext cx="30492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 flipH="1" flipV="1">
              <a:off x="3733560" y="4029120"/>
              <a:ext cx="2801880" cy="1022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4724280" y="5195880"/>
              <a:ext cx="1811520" cy="14986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71160" y="52138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ffffff"/>
                  </a:solidFill>
                  <a:latin typeface="Lucida Console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Dynamisk bind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Metod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flytt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finns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båd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i klass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Linj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och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Punk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ad händer i följande exemp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4032360"/>
            <a:ext cx="4800600" cy="175248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Linje l = new Linje(20,10,30,7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nkt p = 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.flytta(30,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851440" y="4032360"/>
            <a:ext cx="2271960" cy="1913400"/>
            <a:chOff x="5851440" y="4032360"/>
            <a:chExt cx="2271960" cy="1913400"/>
          </a:xfrm>
        </p:grpSpPr>
        <p:sp>
          <p:nvSpPr>
            <p:cNvPr id="646" name=""/>
            <p:cNvSpPr/>
            <p:nvPr/>
          </p:nvSpPr>
          <p:spPr>
            <a:xfrm>
              <a:off x="6205680" y="4389480"/>
              <a:ext cx="608040" cy="1233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205680" y="4389480"/>
              <a:ext cx="8427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813720" y="4389480"/>
              <a:ext cx="398160" cy="1233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13680" y="4388760"/>
              <a:ext cx="72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96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51440" y="4032360"/>
              <a:ext cx="2271960" cy="1912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5830560" y="3700440"/>
            <a:ext cx="2627640" cy="2589120"/>
            <a:chOff x="5830560" y="3700440"/>
            <a:chExt cx="2627640" cy="2589120"/>
          </a:xfrm>
        </p:grpSpPr>
        <p:sp>
          <p:nvSpPr>
            <p:cNvPr id="652" name=""/>
            <p:cNvSpPr/>
            <p:nvPr/>
          </p:nvSpPr>
          <p:spPr>
            <a:xfrm>
              <a:off x="5851440" y="3700440"/>
              <a:ext cx="2606760" cy="258624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5830560" y="3703680"/>
              <a:ext cx="2606760" cy="2585880"/>
            </a:xfrm>
            <a:prstGeom prst="line">
              <a:avLst/>
            </a:prstGeom>
            <a:ln w="88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Dynamisk bindning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57400" y="1951200"/>
            <a:ext cx="4800600" cy="175248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Linje l = new Linje(20,10,30,7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nkt p = 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.flytta(30,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76920" y="2308320"/>
            <a:ext cx="608040" cy="1233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676920" y="2308320"/>
            <a:ext cx="1536840" cy="1247760"/>
            <a:chOff x="6676920" y="2308320"/>
            <a:chExt cx="1536840" cy="1247760"/>
          </a:xfrm>
        </p:grpSpPr>
        <p:sp>
          <p:nvSpPr>
            <p:cNvPr id="658" name=""/>
            <p:cNvSpPr/>
            <p:nvPr/>
          </p:nvSpPr>
          <p:spPr>
            <a:xfrm>
              <a:off x="6676920" y="2308320"/>
              <a:ext cx="8431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605720" y="2322360"/>
              <a:ext cx="608040" cy="1233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86760" y="3532320"/>
              <a:ext cx="8427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4024440"/>
            <a:ext cx="777240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lltså det är metod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flytta()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Linj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som används trots att skepnaden av linjen är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Punk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arfö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Dynamisk bindning (3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Det är praktisk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isserligen ”pratar” vi med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Punk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, men det är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Lin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Dynamisk bindning = d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metod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som avses bestäms alltid av objektet då det skapad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t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av dess nuvarande skepna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Dynamisk bindning (4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Kan användas för generalisering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046240" y="2741760"/>
            <a:ext cx="4891680" cy="3995640"/>
            <a:chOff x="2046240" y="2741760"/>
            <a:chExt cx="4891680" cy="3995640"/>
          </a:xfrm>
        </p:grpSpPr>
        <p:sp>
          <p:nvSpPr>
            <p:cNvPr id="667" name=""/>
            <p:cNvSpPr/>
            <p:nvPr/>
          </p:nvSpPr>
          <p:spPr>
            <a:xfrm>
              <a:off x="3727440" y="2746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Figu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46240" y="4887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Linj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488760" y="488700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Rektang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18720" y="4887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Cirk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01040" y="3215520"/>
              <a:ext cx="1278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Lucida Console"/>
                </a:rPr>
                <a:t>flytta(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Lucida Console"/>
                </a:rPr>
                <a:t>rita(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53240" y="5342760"/>
              <a:ext cx="1278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Lucida Console"/>
                </a:rPr>
                <a:t>flytta(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Lucida Console"/>
                </a:rPr>
                <a:t>rita(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5280" y="5342760"/>
              <a:ext cx="1278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Lucida Console"/>
                </a:rPr>
                <a:t>flytta(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Lucida Console"/>
                </a:rPr>
                <a:t>rita(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59920" y="5342760"/>
              <a:ext cx="1278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Lucida Console"/>
                </a:rPr>
                <a:t>flytta(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Lucida Console"/>
                </a:rPr>
                <a:t>rita(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2770200" y="3723840"/>
              <a:ext cx="1225440" cy="116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4321080" y="3723840"/>
              <a:ext cx="0" cy="116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4647960" y="3723840"/>
              <a:ext cx="1360440" cy="116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47840" y="6014880"/>
              <a:ext cx="704880" cy="54468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780000" y="5972040"/>
              <a:ext cx="1104840" cy="544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826240" y="5851440"/>
              <a:ext cx="876240" cy="88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46720" y="2741760"/>
              <a:ext cx="1309680" cy="990360"/>
            </a:xfrm>
            <a:custGeom>
              <a:avLst/>
              <a:gdLst/>
              <a:ahLst/>
              <a:rect l="l" t="t" r="r" b="b"/>
              <a:pathLst>
                <a:path w="825" h="624">
                  <a:moveTo>
                    <a:pt x="412" y="99"/>
                  </a:moveTo>
                  <a:cubicBezTo>
                    <a:pt x="356" y="90"/>
                    <a:pt x="284" y="127"/>
                    <a:pt x="240" y="116"/>
                  </a:cubicBezTo>
                  <a:cubicBezTo>
                    <a:pt x="196" y="105"/>
                    <a:pt x="179" y="23"/>
                    <a:pt x="146" y="30"/>
                  </a:cubicBezTo>
                  <a:cubicBezTo>
                    <a:pt x="113" y="37"/>
                    <a:pt x="49" y="119"/>
                    <a:pt x="43" y="159"/>
                  </a:cubicBezTo>
                  <a:cubicBezTo>
                    <a:pt x="37" y="199"/>
                    <a:pt x="119" y="239"/>
                    <a:pt x="112" y="270"/>
                  </a:cubicBezTo>
                  <a:cubicBezTo>
                    <a:pt x="105" y="301"/>
                    <a:pt x="0" y="306"/>
                    <a:pt x="0" y="347"/>
                  </a:cubicBezTo>
                  <a:cubicBezTo>
                    <a:pt x="0" y="388"/>
                    <a:pt x="26" y="493"/>
                    <a:pt x="112" y="519"/>
                  </a:cubicBezTo>
                  <a:cubicBezTo>
                    <a:pt x="198" y="545"/>
                    <a:pt x="440" y="486"/>
                    <a:pt x="514" y="502"/>
                  </a:cubicBezTo>
                  <a:cubicBezTo>
                    <a:pt x="588" y="518"/>
                    <a:pt x="511" y="602"/>
                    <a:pt x="557" y="613"/>
                  </a:cubicBezTo>
                  <a:cubicBezTo>
                    <a:pt x="603" y="624"/>
                    <a:pt x="753" y="624"/>
                    <a:pt x="789" y="570"/>
                  </a:cubicBezTo>
                  <a:cubicBezTo>
                    <a:pt x="825" y="516"/>
                    <a:pt x="798" y="325"/>
                    <a:pt x="772" y="287"/>
                  </a:cubicBezTo>
                  <a:cubicBezTo>
                    <a:pt x="746" y="249"/>
                    <a:pt x="641" y="372"/>
                    <a:pt x="634" y="339"/>
                  </a:cubicBezTo>
                  <a:cubicBezTo>
                    <a:pt x="627" y="306"/>
                    <a:pt x="739" y="144"/>
                    <a:pt x="729" y="90"/>
                  </a:cubicBezTo>
                  <a:cubicBezTo>
                    <a:pt x="719" y="36"/>
                    <a:pt x="600" y="0"/>
                    <a:pt x="574" y="13"/>
                  </a:cubicBezTo>
                  <a:cubicBezTo>
                    <a:pt x="548" y="26"/>
                    <a:pt x="598" y="147"/>
                    <a:pt x="574" y="167"/>
                  </a:cubicBezTo>
                  <a:cubicBezTo>
                    <a:pt x="550" y="187"/>
                    <a:pt x="468" y="108"/>
                    <a:pt x="412" y="99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Köp &amp; ar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linje kan beskrivas genom att ma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öper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två punkt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7400" y="3286080"/>
            <a:ext cx="4800600" cy="320508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Lin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nkt p0, p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Linje(Punkt a, Punkt 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p0 = a; p1 = b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void flytta(int dx, int d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p0.flytta(dx,d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1.flytta(dx,dy)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05760" y="2981520"/>
            <a:ext cx="63792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224148"/>
              <a:gd name="adj5" fmla="val 212986"/>
              <a:gd name="adj6" fmla="val -45465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kö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Köp &amp; arv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När ska man köpa eller ärv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Tumregel: ”Om någo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ä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så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ärver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man. Om någo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ha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så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öper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man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Köp &amp; arv (3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784160" y="1757880"/>
            <a:ext cx="1460880" cy="1843920"/>
            <a:chOff x="1784160" y="1757880"/>
            <a:chExt cx="1460880" cy="1843920"/>
          </a:xfrm>
        </p:grpSpPr>
        <p:sp>
          <p:nvSpPr>
            <p:cNvPr id="690" name=""/>
            <p:cNvSpPr/>
            <p:nvPr/>
          </p:nvSpPr>
          <p:spPr>
            <a:xfrm>
              <a:off x="2058480" y="175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Dju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84160" y="3142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Elefa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2541600" y="2215800"/>
              <a:ext cx="0" cy="927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865040" y="1767240"/>
            <a:ext cx="3608640" cy="2054880"/>
            <a:chOff x="4865040" y="1767240"/>
            <a:chExt cx="3608640" cy="2054880"/>
          </a:xfrm>
        </p:grpSpPr>
        <p:sp>
          <p:nvSpPr>
            <p:cNvPr id="694" name=""/>
            <p:cNvSpPr/>
            <p:nvPr/>
          </p:nvSpPr>
          <p:spPr>
            <a:xfrm>
              <a:off x="6062760" y="1767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Cyk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65040" y="3151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Hju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388120" y="2225520"/>
              <a:ext cx="952200" cy="927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6504120" y="2225520"/>
              <a:ext cx="0" cy="927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89200" y="345384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fra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160680" y="3151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Hju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35600" y="34538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ba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6733800" y="2225520"/>
              <a:ext cx="1049400" cy="927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78560" y="3142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Sty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785880" y="4011480"/>
            <a:ext cx="3481200" cy="2336760"/>
            <a:chOff x="785880" y="4011480"/>
            <a:chExt cx="3481200" cy="2336760"/>
          </a:xfrm>
        </p:grpSpPr>
        <p:sp>
          <p:nvSpPr>
            <p:cNvPr id="704" name=""/>
            <p:cNvSpPr/>
            <p:nvPr/>
          </p:nvSpPr>
          <p:spPr>
            <a:xfrm>
              <a:off x="785880" y="4011480"/>
              <a:ext cx="3481200" cy="16891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class Elefant extends Dj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68640" y="5888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Ar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4888080" y="4011480"/>
            <a:ext cx="3481200" cy="2336760"/>
            <a:chOff x="4888080" y="4011480"/>
            <a:chExt cx="3481200" cy="2336760"/>
          </a:xfrm>
        </p:grpSpPr>
        <p:sp>
          <p:nvSpPr>
            <p:cNvPr id="707" name=""/>
            <p:cNvSpPr/>
            <p:nvPr/>
          </p:nvSpPr>
          <p:spPr>
            <a:xfrm>
              <a:off x="4888080" y="4011480"/>
              <a:ext cx="3481200" cy="16891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class Cyk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    </a:t>
              </a: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Hjul     fram, bak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    </a:t>
              </a: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Styre    styre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17280" y="588852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Kö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Kompil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5560" y="1980000"/>
            <a:ext cx="3387240" cy="581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Java källkod (.jav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378600" y="2590920"/>
            <a:ext cx="2262600" cy="1143720"/>
            <a:chOff x="3378600" y="2590920"/>
            <a:chExt cx="2262600" cy="1143720"/>
          </a:xfrm>
        </p:grpSpPr>
        <p:sp>
          <p:nvSpPr>
            <p:cNvPr id="54" name=""/>
            <p:cNvSpPr/>
            <p:nvPr/>
          </p:nvSpPr>
          <p:spPr>
            <a:xfrm>
              <a:off x="3378600" y="3153240"/>
              <a:ext cx="2262600" cy="581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ffffff"/>
                  </a:solidFill>
                  <a:latin typeface="Times New Roman"/>
                </a:rPr>
                <a:t>JVM (.class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72000" y="2590920"/>
              <a:ext cx="0" cy="563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641920" y="2587680"/>
            <a:ext cx="3349080" cy="1767240"/>
            <a:chOff x="5641920" y="2587680"/>
            <a:chExt cx="3349080" cy="1767240"/>
          </a:xfrm>
        </p:grpSpPr>
        <p:sp>
          <p:nvSpPr>
            <p:cNvPr id="57" name=""/>
            <p:cNvSpPr/>
            <p:nvPr/>
          </p:nvSpPr>
          <p:spPr>
            <a:xfrm>
              <a:off x="6433200" y="2587680"/>
              <a:ext cx="1003680" cy="17672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91440" anchor="ctr">
              <a:spAutoFit/>
            </a:bodyPr>
            <a:p>
              <a:pPr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a.cla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b.cla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c.cla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d.g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e.a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41920" y="3581280"/>
              <a:ext cx="78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73960" y="3077280"/>
              <a:ext cx="98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ffffff"/>
                  </a:solidFill>
                  <a:latin typeface="Times New Roman"/>
                </a:rPr>
                <a:t>(.jar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31560" y="3580920"/>
              <a:ext cx="145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jar 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Java ARch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04800" y="3738600"/>
            <a:ext cx="3129120" cy="1752840"/>
            <a:chOff x="604800" y="3738600"/>
            <a:chExt cx="3129120" cy="1752840"/>
          </a:xfrm>
        </p:grpSpPr>
        <p:sp>
          <p:nvSpPr>
            <p:cNvPr id="62" name=""/>
            <p:cNvSpPr/>
            <p:nvPr/>
          </p:nvSpPr>
          <p:spPr>
            <a:xfrm flipH="1">
              <a:off x="2814480" y="3738600"/>
              <a:ext cx="919440" cy="833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800" y="4624560"/>
              <a:ext cx="2179800" cy="866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8600" bIns="91440" anchor="ctr">
              <a:spAutoFit/>
            </a:bodyPr>
            <a:p>
              <a:pPr algn="ctr">
                <a:lnSpc>
                  <a:spcPct val="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ffffff"/>
                  </a:solidFill>
                  <a:latin typeface="Times New Roman"/>
                </a:rPr>
                <a:t>Maskinkod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ffffff"/>
                  </a:solidFill>
                  <a:latin typeface="Times New Roman"/>
                </a:rPr>
                <a:t>(t ex 80x86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18600" y="320004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JVM =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Java Virtual Mach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72000" y="3738600"/>
            <a:ext cx="2358720" cy="1748520"/>
            <a:chOff x="4572000" y="3738600"/>
            <a:chExt cx="2358720" cy="1748520"/>
          </a:xfrm>
        </p:grpSpPr>
        <p:sp>
          <p:nvSpPr>
            <p:cNvPr id="66" name=""/>
            <p:cNvSpPr/>
            <p:nvPr/>
          </p:nvSpPr>
          <p:spPr>
            <a:xfrm>
              <a:off x="4572000" y="3738600"/>
              <a:ext cx="609480" cy="116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48120" y="4905720"/>
              <a:ext cx="2082600" cy="581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ffffff"/>
                  </a:solidFill>
                  <a:latin typeface="Times New Roman"/>
                </a:rPr>
                <a:t>Interpreter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784600" y="4905720"/>
            <a:ext cx="2060280" cy="1571760"/>
            <a:chOff x="2784600" y="4905720"/>
            <a:chExt cx="2060280" cy="1571760"/>
          </a:xfrm>
        </p:grpSpPr>
        <p:sp>
          <p:nvSpPr>
            <p:cNvPr id="69" name=""/>
            <p:cNvSpPr/>
            <p:nvPr/>
          </p:nvSpPr>
          <p:spPr>
            <a:xfrm>
              <a:off x="3511080" y="4905720"/>
              <a:ext cx="723240" cy="581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ffffff"/>
                  </a:solidFill>
                  <a:latin typeface="Times New Roman"/>
                </a:rPr>
                <a:t>JI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240080" y="5257800"/>
              <a:ext cx="604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784600" y="5257800"/>
              <a:ext cx="72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0760" y="5560560"/>
              <a:ext cx="1453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JIT =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Just in-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(kompilering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Fördelar med ar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623960"/>
            <a:ext cx="78264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rv behåller transparens! Det gör inte köp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77880" y="2389680"/>
            <a:ext cx="3659040" cy="4223880"/>
            <a:chOff x="677880" y="2389680"/>
            <a:chExt cx="3659040" cy="4223880"/>
          </a:xfrm>
        </p:grpSpPr>
        <p:sp>
          <p:nvSpPr>
            <p:cNvPr id="712" name=""/>
            <p:cNvSpPr/>
            <p:nvPr/>
          </p:nvSpPr>
          <p:spPr>
            <a:xfrm>
              <a:off x="677880" y="2936880"/>
              <a:ext cx="3659040" cy="36766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class Dj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    </a:t>
              </a: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int vikt(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class Elef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    </a:t>
              </a: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Djur   d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    </a:t>
              </a: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int vikt(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      </a:t>
              </a: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{ return d.vikt(); 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05720" y="23896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Kö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4600440" y="2378520"/>
            <a:ext cx="3700440" cy="3136320"/>
            <a:chOff x="4600440" y="2378520"/>
            <a:chExt cx="3700440" cy="3136320"/>
          </a:xfrm>
        </p:grpSpPr>
        <p:sp>
          <p:nvSpPr>
            <p:cNvPr id="715" name=""/>
            <p:cNvSpPr/>
            <p:nvPr/>
          </p:nvSpPr>
          <p:spPr>
            <a:xfrm>
              <a:off x="4600440" y="2927520"/>
              <a:ext cx="3700440" cy="25873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class Dj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    </a:t>
              </a: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int vikt(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class Elefant extends Dj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29640" y="2378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Ar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4575960" y="4830480"/>
            <a:ext cx="3329280" cy="1371600"/>
            <a:chOff x="4575960" y="4830480"/>
            <a:chExt cx="3329280" cy="1371600"/>
          </a:xfrm>
        </p:grpSpPr>
        <p:sp>
          <p:nvSpPr>
            <p:cNvPr id="718" name=""/>
            <p:cNvSpPr/>
            <p:nvPr/>
          </p:nvSpPr>
          <p:spPr>
            <a:xfrm>
              <a:off x="4575960" y="5742360"/>
              <a:ext cx="332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vikt() transparent vid arv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>
              <a:off x="7007040" y="4830480"/>
              <a:ext cx="422280" cy="912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Abstrakta klasser/metod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bland används en klass för att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enbar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generalisera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916560" y="3273840"/>
            <a:ext cx="4230000" cy="2822040"/>
            <a:chOff x="916560" y="3273840"/>
            <a:chExt cx="4230000" cy="2822040"/>
          </a:xfrm>
        </p:grpSpPr>
        <p:sp>
          <p:nvSpPr>
            <p:cNvPr id="723" name=""/>
            <p:cNvSpPr/>
            <p:nvPr/>
          </p:nvSpPr>
          <p:spPr>
            <a:xfrm>
              <a:off x="2446200" y="32738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Figu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16560" y="4245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Cirk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719080" y="3882600"/>
              <a:ext cx="1003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Lucida Console"/>
                </a:rPr>
                <a:t>rita(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157040" y="4841640"/>
              <a:ext cx="1003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Lucida Console"/>
                </a:rPr>
                <a:t>rita(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324080" y="5210280"/>
              <a:ext cx="876240" cy="885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36880" y="3282840"/>
              <a:ext cx="1309680" cy="990720"/>
            </a:xfrm>
            <a:custGeom>
              <a:avLst/>
              <a:gdLst/>
              <a:ahLst/>
              <a:rect l="l" t="t" r="r" b="b"/>
              <a:pathLst>
                <a:path w="825" h="624">
                  <a:moveTo>
                    <a:pt x="412" y="99"/>
                  </a:moveTo>
                  <a:cubicBezTo>
                    <a:pt x="356" y="90"/>
                    <a:pt x="284" y="127"/>
                    <a:pt x="240" y="116"/>
                  </a:cubicBezTo>
                  <a:cubicBezTo>
                    <a:pt x="196" y="105"/>
                    <a:pt x="179" y="23"/>
                    <a:pt x="146" y="30"/>
                  </a:cubicBezTo>
                  <a:cubicBezTo>
                    <a:pt x="113" y="37"/>
                    <a:pt x="49" y="119"/>
                    <a:pt x="43" y="159"/>
                  </a:cubicBezTo>
                  <a:cubicBezTo>
                    <a:pt x="37" y="199"/>
                    <a:pt x="119" y="239"/>
                    <a:pt x="112" y="270"/>
                  </a:cubicBezTo>
                  <a:cubicBezTo>
                    <a:pt x="105" y="301"/>
                    <a:pt x="0" y="306"/>
                    <a:pt x="0" y="347"/>
                  </a:cubicBezTo>
                  <a:cubicBezTo>
                    <a:pt x="0" y="388"/>
                    <a:pt x="26" y="493"/>
                    <a:pt x="112" y="519"/>
                  </a:cubicBezTo>
                  <a:cubicBezTo>
                    <a:pt x="198" y="545"/>
                    <a:pt x="440" y="486"/>
                    <a:pt x="514" y="502"/>
                  </a:cubicBezTo>
                  <a:cubicBezTo>
                    <a:pt x="588" y="518"/>
                    <a:pt x="511" y="602"/>
                    <a:pt x="557" y="613"/>
                  </a:cubicBezTo>
                  <a:cubicBezTo>
                    <a:pt x="603" y="624"/>
                    <a:pt x="753" y="624"/>
                    <a:pt x="789" y="570"/>
                  </a:cubicBezTo>
                  <a:cubicBezTo>
                    <a:pt x="825" y="516"/>
                    <a:pt x="798" y="325"/>
                    <a:pt x="772" y="287"/>
                  </a:cubicBezTo>
                  <a:cubicBezTo>
                    <a:pt x="746" y="249"/>
                    <a:pt x="641" y="372"/>
                    <a:pt x="634" y="339"/>
                  </a:cubicBezTo>
                  <a:cubicBezTo>
                    <a:pt x="627" y="306"/>
                    <a:pt x="739" y="144"/>
                    <a:pt x="729" y="90"/>
                  </a:cubicBezTo>
                  <a:cubicBezTo>
                    <a:pt x="719" y="36"/>
                    <a:pt x="600" y="0"/>
                    <a:pt x="574" y="13"/>
                  </a:cubicBezTo>
                  <a:cubicBezTo>
                    <a:pt x="548" y="26"/>
                    <a:pt x="598" y="147"/>
                    <a:pt x="574" y="167"/>
                  </a:cubicBezTo>
                  <a:cubicBezTo>
                    <a:pt x="550" y="187"/>
                    <a:pt x="468" y="108"/>
                    <a:pt x="412" y="99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1959120" y="3719520"/>
              <a:ext cx="482400" cy="527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714760" y="4502160"/>
            <a:ext cx="61434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ffffff"/>
                </a:solidFill>
                <a:latin typeface="Lucida Console"/>
              </a:rPr>
              <a:t>Figur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förekommer endast i sin skepn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new </a:t>
            </a:r>
            <a:r>
              <a:rPr b="0" lang="sv-SE" sz="2400" spc="-1" strike="noStrike">
                <a:solidFill>
                  <a:srgbClr val="ffffff"/>
                </a:solidFill>
                <a:latin typeface="Lucida Console"/>
              </a:rPr>
              <a:t>Figur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() ej meningsfull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Metoden</a:t>
            </a:r>
            <a:r>
              <a:rPr b="0" i="1" lang="sv-S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v-SE" sz="2400" spc="-1" strike="noStrike">
                <a:solidFill>
                  <a:srgbClr val="ffffff"/>
                </a:solidFill>
                <a:latin typeface="Lucida Console"/>
              </a:rPr>
              <a:t>rita()</a:t>
            </a:r>
            <a:r>
              <a:rPr b="0" i="1" lang="sv-S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ej meningsfull i </a:t>
            </a:r>
            <a:r>
              <a:rPr b="0" lang="sv-SE" sz="2400" spc="-1" strike="noStrike">
                <a:solidFill>
                  <a:srgbClr val="ffffff"/>
                </a:solidFill>
                <a:latin typeface="Lucida Console"/>
              </a:rPr>
              <a:t>Figur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Abstrakta klasser/metoder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j meningsfullt” kan ersättas med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abs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3036960"/>
            <a:ext cx="3700440" cy="286848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 u="sng">
                <a:solidFill>
                  <a:srgbClr val="ffffff"/>
                </a:solidFill>
                <a:uFillTx/>
                <a:latin typeface="Lucida Console"/>
              </a:rPr>
              <a:t>abstract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class Fig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 u="sng">
                <a:solidFill>
                  <a:srgbClr val="ffffff"/>
                </a:solidFill>
                <a:uFillTx/>
                <a:latin typeface="Lucida Console"/>
              </a:rPr>
              <a:t>abstract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void ri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Cirkel extends Fig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void rita() { ...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60920" y="3036960"/>
            <a:ext cx="37972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abstract &lt;klass&gt; förhindrar ”new &lt;klass&gt;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abstract &lt;metod&gt; kräver en definition av &lt;metod&gt; i någon arvtag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Om en </a:t>
            </a:r>
            <a:r>
              <a:rPr b="0" i="1" lang="sv-SE" sz="2400" spc="-1" strike="noStrike">
                <a:solidFill>
                  <a:srgbClr val="ffffff"/>
                </a:solidFill>
                <a:latin typeface="Times New Roman"/>
              </a:rPr>
              <a:t>metod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är abstrakt måste </a:t>
            </a:r>
            <a:r>
              <a:rPr b="0" i="1" lang="sv-SE" sz="2400" spc="-1" strike="noStrike">
                <a:solidFill>
                  <a:srgbClr val="ffffff"/>
                </a:solidFill>
                <a:latin typeface="Times New Roman"/>
              </a:rPr>
              <a:t>klassen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vara abstrak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Interfa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t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lass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med följande begräs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71600" y="3143160"/>
            <a:ext cx="680544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Alla </a:t>
            </a:r>
            <a:r>
              <a:rPr b="0" i="1" lang="sv-SE" sz="2800" spc="-1" strike="noStrike">
                <a:solidFill>
                  <a:srgbClr val="ffffff"/>
                </a:solidFill>
                <a:latin typeface="Times New Roman"/>
              </a:rPr>
              <a:t>metoder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måste vara </a:t>
            </a:r>
            <a:r>
              <a:rPr b="0" i="1" lang="sv-SE" sz="2800" spc="-1" strike="noStrike">
                <a:solidFill>
                  <a:srgbClr val="ffffff"/>
                </a:solidFill>
                <a:latin typeface="Times New Roman"/>
              </a:rPr>
              <a:t>abstrak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ngen data får förekom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4329000"/>
            <a:ext cx="77724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lass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får högs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ärv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en klass, men ka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ärv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ett obegränsat antal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 interfac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Bra när man vill dela gemensamma egenskaper mellan olika klas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Interfaces (syntax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714760" y="1930320"/>
            <a:ext cx="3700440" cy="19353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nterface 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abstract m0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abstract m1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798560" y="4354560"/>
            <a:ext cx="5504040" cy="14112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C extends C’ implements I0, I1, 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Interfaces (Exempel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63920" y="1752480"/>
            <a:ext cx="3700440" cy="13766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 u="sng">
                <a:solidFill>
                  <a:srgbClr val="ffffff"/>
                </a:solidFill>
                <a:uFillTx/>
                <a:latin typeface="Lucida Console"/>
              </a:rPr>
              <a:t>interface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Nam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abstract String nam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22360" y="3429000"/>
            <a:ext cx="3700440" cy="23400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Person implements Nam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tring     p_nam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tring nam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return p_namn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538520" y="3429000"/>
            <a:ext cx="3919680" cy="23400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Företag implements Nam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tring     f_nam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tring nam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return f_namn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 (fort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604960" y="2111400"/>
            <a:ext cx="3980160" cy="11462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nterface Nam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Person implements Nam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Företag implements Nam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65040" y="3602160"/>
            <a:ext cx="4675320" cy="23400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erson p = new Person(...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Företag f = new Företag(...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foo( p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foo( f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307120" y="3602160"/>
            <a:ext cx="3535200" cy="157788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void foo(Namn 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...  n.namn() ..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Interfa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5149800" y="1678680"/>
            <a:ext cx="1579680" cy="1353600"/>
            <a:chOff x="5149800" y="1678680"/>
            <a:chExt cx="1579680" cy="1353600"/>
          </a:xfrm>
        </p:grpSpPr>
        <p:sp>
          <p:nvSpPr>
            <p:cNvPr id="752" name=""/>
            <p:cNvSpPr/>
            <p:nvPr/>
          </p:nvSpPr>
          <p:spPr>
            <a:xfrm>
              <a:off x="5149800" y="1698480"/>
              <a:ext cx="1579680" cy="1333800"/>
            </a:xfrm>
            <a:custGeom>
              <a:avLst/>
              <a:gdLst/>
              <a:ahLst/>
              <a:rect l="l" t="t" r="r" b="b"/>
              <a:pathLst>
                <a:path w="995" h="840">
                  <a:moveTo>
                    <a:pt x="507" y="17"/>
                  </a:moveTo>
                  <a:cubicBezTo>
                    <a:pt x="451" y="20"/>
                    <a:pt x="402" y="41"/>
                    <a:pt x="345" y="68"/>
                  </a:cubicBezTo>
                  <a:cubicBezTo>
                    <a:pt x="288" y="95"/>
                    <a:pt x="216" y="136"/>
                    <a:pt x="165" y="179"/>
                  </a:cubicBezTo>
                  <a:cubicBezTo>
                    <a:pt x="114" y="222"/>
                    <a:pt x="62" y="262"/>
                    <a:pt x="36" y="325"/>
                  </a:cubicBezTo>
                  <a:cubicBezTo>
                    <a:pt x="10" y="388"/>
                    <a:pt x="0" y="506"/>
                    <a:pt x="10" y="557"/>
                  </a:cubicBezTo>
                  <a:cubicBezTo>
                    <a:pt x="20" y="608"/>
                    <a:pt x="48" y="590"/>
                    <a:pt x="96" y="634"/>
                  </a:cubicBezTo>
                  <a:cubicBezTo>
                    <a:pt x="144" y="678"/>
                    <a:pt x="234" y="800"/>
                    <a:pt x="300" y="820"/>
                  </a:cubicBezTo>
                  <a:cubicBezTo>
                    <a:pt x="366" y="840"/>
                    <a:pt x="434" y="810"/>
                    <a:pt x="490" y="754"/>
                  </a:cubicBezTo>
                  <a:cubicBezTo>
                    <a:pt x="546" y="698"/>
                    <a:pt x="551" y="556"/>
                    <a:pt x="634" y="485"/>
                  </a:cubicBezTo>
                  <a:cubicBezTo>
                    <a:pt x="717" y="414"/>
                    <a:pt x="979" y="397"/>
                    <a:pt x="987" y="325"/>
                  </a:cubicBezTo>
                  <a:cubicBezTo>
                    <a:pt x="995" y="253"/>
                    <a:pt x="759" y="102"/>
                    <a:pt x="679" y="51"/>
                  </a:cubicBezTo>
                  <a:cubicBezTo>
                    <a:pt x="599" y="0"/>
                    <a:pt x="563" y="14"/>
                    <a:pt x="507" y="1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94680" y="167868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6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49800" y="2265480"/>
              <a:ext cx="268200" cy="528480"/>
            </a:xfrm>
            <a:custGeom>
              <a:avLst/>
              <a:gdLst/>
              <a:ahLst/>
              <a:rect l="l" t="t" r="r" b="b"/>
              <a:pathLst>
                <a:path w="169" h="333">
                  <a:moveTo>
                    <a:pt x="17" y="0"/>
                  </a:moveTo>
                  <a:cubicBezTo>
                    <a:pt x="56" y="17"/>
                    <a:pt x="96" y="34"/>
                    <a:pt x="120" y="60"/>
                  </a:cubicBezTo>
                  <a:cubicBezTo>
                    <a:pt x="144" y="86"/>
                    <a:pt x="157" y="111"/>
                    <a:pt x="163" y="154"/>
                  </a:cubicBezTo>
                  <a:cubicBezTo>
                    <a:pt x="169" y="197"/>
                    <a:pt x="168" y="301"/>
                    <a:pt x="154" y="317"/>
                  </a:cubicBezTo>
                  <a:cubicBezTo>
                    <a:pt x="140" y="333"/>
                    <a:pt x="100" y="264"/>
                    <a:pt x="77" y="248"/>
                  </a:cubicBezTo>
                  <a:cubicBezTo>
                    <a:pt x="54" y="232"/>
                    <a:pt x="29" y="244"/>
                    <a:pt x="17" y="223"/>
                  </a:cubicBezTo>
                  <a:cubicBezTo>
                    <a:pt x="5" y="202"/>
                    <a:pt x="11" y="149"/>
                    <a:pt x="8" y="120"/>
                  </a:cubicBezTo>
                  <a:cubicBezTo>
                    <a:pt x="5" y="91"/>
                    <a:pt x="0" y="70"/>
                    <a:pt x="0" y="51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057400" y="1816200"/>
            <a:ext cx="1571760" cy="1201680"/>
            <a:chOff x="2057400" y="1816200"/>
            <a:chExt cx="1571760" cy="1201680"/>
          </a:xfrm>
        </p:grpSpPr>
        <p:sp>
          <p:nvSpPr>
            <p:cNvPr id="756" name=""/>
            <p:cNvSpPr/>
            <p:nvPr/>
          </p:nvSpPr>
          <p:spPr>
            <a:xfrm>
              <a:off x="2057400" y="1816200"/>
              <a:ext cx="1571760" cy="1201680"/>
            </a:xfrm>
            <a:custGeom>
              <a:avLst/>
              <a:gdLst/>
              <a:ahLst/>
              <a:rect l="l" t="t" r="r" b="b"/>
              <a:pathLst>
                <a:path w="990" h="757">
                  <a:moveTo>
                    <a:pt x="507" y="17"/>
                  </a:moveTo>
                  <a:cubicBezTo>
                    <a:pt x="451" y="20"/>
                    <a:pt x="402" y="41"/>
                    <a:pt x="345" y="68"/>
                  </a:cubicBezTo>
                  <a:cubicBezTo>
                    <a:pt x="288" y="95"/>
                    <a:pt x="216" y="136"/>
                    <a:pt x="165" y="179"/>
                  </a:cubicBezTo>
                  <a:cubicBezTo>
                    <a:pt x="114" y="222"/>
                    <a:pt x="62" y="262"/>
                    <a:pt x="36" y="325"/>
                  </a:cubicBezTo>
                  <a:cubicBezTo>
                    <a:pt x="10" y="388"/>
                    <a:pt x="0" y="506"/>
                    <a:pt x="10" y="557"/>
                  </a:cubicBezTo>
                  <a:cubicBezTo>
                    <a:pt x="20" y="608"/>
                    <a:pt x="53" y="613"/>
                    <a:pt x="96" y="634"/>
                  </a:cubicBezTo>
                  <a:cubicBezTo>
                    <a:pt x="139" y="655"/>
                    <a:pt x="201" y="665"/>
                    <a:pt x="267" y="685"/>
                  </a:cubicBezTo>
                  <a:cubicBezTo>
                    <a:pt x="333" y="705"/>
                    <a:pt x="419" y="757"/>
                    <a:pt x="490" y="754"/>
                  </a:cubicBezTo>
                  <a:cubicBezTo>
                    <a:pt x="561" y="751"/>
                    <a:pt x="613" y="739"/>
                    <a:pt x="696" y="668"/>
                  </a:cubicBezTo>
                  <a:cubicBezTo>
                    <a:pt x="779" y="597"/>
                    <a:pt x="990" y="428"/>
                    <a:pt x="987" y="325"/>
                  </a:cubicBezTo>
                  <a:cubicBezTo>
                    <a:pt x="984" y="222"/>
                    <a:pt x="759" y="102"/>
                    <a:pt x="679" y="51"/>
                  </a:cubicBezTo>
                  <a:cubicBezTo>
                    <a:pt x="599" y="0"/>
                    <a:pt x="563" y="14"/>
                    <a:pt x="507" y="1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35600" y="186300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6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16160" y="2514600"/>
              <a:ext cx="414360" cy="363600"/>
            </a:xfrm>
            <a:custGeom>
              <a:avLst/>
              <a:gdLst/>
              <a:ahLst/>
              <a:rect l="l" t="t" r="r" b="b"/>
              <a:pathLst>
                <a:path w="261" h="229">
                  <a:moveTo>
                    <a:pt x="29" y="229"/>
                  </a:moveTo>
                  <a:cubicBezTo>
                    <a:pt x="14" y="187"/>
                    <a:pt x="0" y="145"/>
                    <a:pt x="4" y="109"/>
                  </a:cubicBezTo>
                  <a:cubicBezTo>
                    <a:pt x="8" y="73"/>
                    <a:pt x="12" y="28"/>
                    <a:pt x="55" y="14"/>
                  </a:cubicBezTo>
                  <a:cubicBezTo>
                    <a:pt x="98" y="0"/>
                    <a:pt x="225" y="22"/>
                    <a:pt x="261" y="23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3537000" y="4243320"/>
            <a:ext cx="1581120" cy="1243080"/>
            <a:chOff x="3537000" y="4243320"/>
            <a:chExt cx="1581120" cy="1243080"/>
          </a:xfrm>
        </p:grpSpPr>
        <p:sp>
          <p:nvSpPr>
            <p:cNvPr id="760" name=""/>
            <p:cNvSpPr/>
            <p:nvPr/>
          </p:nvSpPr>
          <p:spPr>
            <a:xfrm>
              <a:off x="3537000" y="4243320"/>
              <a:ext cx="1581120" cy="1243080"/>
            </a:xfrm>
            <a:custGeom>
              <a:avLst/>
              <a:gdLst/>
              <a:ahLst/>
              <a:rect l="l" t="t" r="r" b="b"/>
              <a:pathLst>
                <a:path w="996" h="783">
                  <a:moveTo>
                    <a:pt x="544" y="22"/>
                  </a:moveTo>
                  <a:cubicBezTo>
                    <a:pt x="488" y="25"/>
                    <a:pt x="411" y="42"/>
                    <a:pt x="349" y="68"/>
                  </a:cubicBezTo>
                  <a:cubicBezTo>
                    <a:pt x="287" y="94"/>
                    <a:pt x="197" y="128"/>
                    <a:pt x="169" y="179"/>
                  </a:cubicBezTo>
                  <a:cubicBezTo>
                    <a:pt x="141" y="230"/>
                    <a:pt x="210" y="311"/>
                    <a:pt x="184" y="374"/>
                  </a:cubicBezTo>
                  <a:cubicBezTo>
                    <a:pt x="158" y="437"/>
                    <a:pt x="28" y="514"/>
                    <a:pt x="14" y="557"/>
                  </a:cubicBezTo>
                  <a:cubicBezTo>
                    <a:pt x="0" y="600"/>
                    <a:pt x="57" y="613"/>
                    <a:pt x="100" y="634"/>
                  </a:cubicBezTo>
                  <a:cubicBezTo>
                    <a:pt x="143" y="655"/>
                    <a:pt x="205" y="665"/>
                    <a:pt x="271" y="685"/>
                  </a:cubicBezTo>
                  <a:cubicBezTo>
                    <a:pt x="337" y="705"/>
                    <a:pt x="420" y="783"/>
                    <a:pt x="494" y="754"/>
                  </a:cubicBezTo>
                  <a:cubicBezTo>
                    <a:pt x="568" y="725"/>
                    <a:pt x="633" y="582"/>
                    <a:pt x="716" y="511"/>
                  </a:cubicBezTo>
                  <a:cubicBezTo>
                    <a:pt x="799" y="440"/>
                    <a:pt x="996" y="402"/>
                    <a:pt x="991" y="325"/>
                  </a:cubicBezTo>
                  <a:cubicBezTo>
                    <a:pt x="986" y="248"/>
                    <a:pt x="758" y="102"/>
                    <a:pt x="683" y="51"/>
                  </a:cubicBezTo>
                  <a:cubicBezTo>
                    <a:pt x="608" y="0"/>
                    <a:pt x="600" y="19"/>
                    <a:pt x="544" y="22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02320" y="443952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6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075200" y="4264200"/>
              <a:ext cx="449280" cy="226800"/>
            </a:xfrm>
            <a:custGeom>
              <a:avLst/>
              <a:gdLst/>
              <a:ahLst/>
              <a:rect l="l" t="t" r="r" b="b"/>
              <a:pathLst>
                <a:path w="283" h="143">
                  <a:moveTo>
                    <a:pt x="0" y="51"/>
                  </a:moveTo>
                  <a:cubicBezTo>
                    <a:pt x="18" y="91"/>
                    <a:pt x="37" y="131"/>
                    <a:pt x="77" y="137"/>
                  </a:cubicBezTo>
                  <a:cubicBezTo>
                    <a:pt x="117" y="143"/>
                    <a:pt x="206" y="108"/>
                    <a:pt x="240" y="85"/>
                  </a:cubicBezTo>
                  <a:cubicBezTo>
                    <a:pt x="274" y="62"/>
                    <a:pt x="275" y="17"/>
                    <a:pt x="283" y="0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3309840" y="2685600"/>
            <a:ext cx="1839960" cy="1578600"/>
            <a:chOff x="3309840" y="2685600"/>
            <a:chExt cx="1839960" cy="1578600"/>
          </a:xfrm>
        </p:grpSpPr>
        <p:sp>
          <p:nvSpPr>
            <p:cNvPr id="764" name=""/>
            <p:cNvSpPr/>
            <p:nvPr/>
          </p:nvSpPr>
          <p:spPr>
            <a:xfrm>
              <a:off x="3849840" y="2876400"/>
              <a:ext cx="801360" cy="882720"/>
            </a:xfrm>
            <a:custGeom>
              <a:avLst/>
              <a:gdLst/>
              <a:ahLst/>
              <a:rect l="l" t="t" r="r" b="b"/>
              <a:pathLst>
                <a:path w="487" h="418">
                  <a:moveTo>
                    <a:pt x="322" y="120"/>
                  </a:moveTo>
                  <a:cubicBezTo>
                    <a:pt x="288" y="122"/>
                    <a:pt x="237" y="32"/>
                    <a:pt x="198" y="28"/>
                  </a:cubicBezTo>
                  <a:cubicBezTo>
                    <a:pt x="159" y="24"/>
                    <a:pt x="119" y="70"/>
                    <a:pt x="88" y="96"/>
                  </a:cubicBezTo>
                  <a:cubicBezTo>
                    <a:pt x="57" y="123"/>
                    <a:pt x="0" y="156"/>
                    <a:pt x="9" y="186"/>
                  </a:cubicBezTo>
                  <a:cubicBezTo>
                    <a:pt x="18" y="216"/>
                    <a:pt x="136" y="242"/>
                    <a:pt x="142" y="274"/>
                  </a:cubicBezTo>
                  <a:cubicBezTo>
                    <a:pt x="148" y="306"/>
                    <a:pt x="45" y="354"/>
                    <a:pt x="46" y="376"/>
                  </a:cubicBezTo>
                  <a:cubicBezTo>
                    <a:pt x="47" y="398"/>
                    <a:pt x="110" y="412"/>
                    <a:pt x="150" y="408"/>
                  </a:cubicBezTo>
                  <a:cubicBezTo>
                    <a:pt x="190" y="404"/>
                    <a:pt x="243" y="354"/>
                    <a:pt x="287" y="352"/>
                  </a:cubicBezTo>
                  <a:cubicBezTo>
                    <a:pt x="331" y="350"/>
                    <a:pt x="379" y="418"/>
                    <a:pt x="412" y="397"/>
                  </a:cubicBezTo>
                  <a:cubicBezTo>
                    <a:pt x="445" y="376"/>
                    <a:pt x="487" y="286"/>
                    <a:pt x="485" y="223"/>
                  </a:cubicBezTo>
                  <a:cubicBezTo>
                    <a:pt x="483" y="160"/>
                    <a:pt x="429" y="34"/>
                    <a:pt x="402" y="17"/>
                  </a:cubicBezTo>
                  <a:cubicBezTo>
                    <a:pt x="375" y="0"/>
                    <a:pt x="356" y="118"/>
                    <a:pt x="322" y="120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099320" y="299340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4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09840" y="2793960"/>
              <a:ext cx="685800" cy="298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4651200" y="2685600"/>
              <a:ext cx="498600" cy="4986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260960" y="3695760"/>
              <a:ext cx="0" cy="568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5942520" y="5617800"/>
            <a:ext cx="293148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,B,C -- klas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 -- Interf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Array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samling objek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arje objekt refereras med et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index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Givet en array av storlek n: 0 </a:t>
            </a:r>
            <a:r>
              <a:rPr b="0" lang="sv-SE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index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rrayen självt betraktas som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et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objek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rrayer är första ordningens objekt (dvs de särbehandlas ej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Array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09400" y="1980720"/>
            <a:ext cx="822636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ny array-typ kan skapas med []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&lt;typ&gt; []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= en array med element av typ &lt;typ&gt;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Storleken av en array ingår </a:t>
            </a: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ej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i typ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rv-hierarkin utökas automatisk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3132720" y="4393080"/>
            <a:ext cx="363600" cy="1843920"/>
            <a:chOff x="3132720" y="4393080"/>
            <a:chExt cx="363600" cy="1843920"/>
          </a:xfrm>
        </p:grpSpPr>
        <p:sp>
          <p:nvSpPr>
            <p:cNvPr id="775" name=""/>
            <p:cNvSpPr/>
            <p:nvPr/>
          </p:nvSpPr>
          <p:spPr>
            <a:xfrm>
              <a:off x="3132720" y="4393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132720" y="5777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3295800" y="4851000"/>
              <a:ext cx="0" cy="927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972960" y="4378680"/>
            <a:ext cx="1816920" cy="1843920"/>
            <a:chOff x="3972960" y="4378680"/>
            <a:chExt cx="1816920" cy="1843920"/>
          </a:xfrm>
        </p:grpSpPr>
        <p:sp>
          <p:nvSpPr>
            <p:cNvPr id="779" name=""/>
            <p:cNvSpPr/>
            <p:nvPr/>
          </p:nvSpPr>
          <p:spPr>
            <a:xfrm>
              <a:off x="4877640" y="4378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A [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877640" y="5762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Lucida Console"/>
                </a:rPr>
                <a:t>B [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315040" y="4836600"/>
              <a:ext cx="0" cy="927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72960" y="4794840"/>
              <a:ext cx="72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5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JV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JVM är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irtuell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(eller abstrakt) maskin; en slags generisk assemb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JVM bra då kod ska distribueras över nät (processor/arkitektur-oberoende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Ovan kan göras som en egenskap av språke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JVM relativt enkelt att kompilera till maskink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Array (3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7200" y="1828800"/>
            <a:ext cx="5040360" cy="449568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Person [] p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ps = new Person[4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ps[2].ålder = 42; // Fel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ps[2] = new Person(”Kalle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ps[2].ålder = 42; // 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229536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800" y="205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800" y="242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4920" y="26719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00" y="276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4920" y="30052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76120" y="3743280"/>
            <a:ext cx="10191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800" y="312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00" y="3480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00" y="3832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76800" y="1194480"/>
            <a:ext cx="1122480" cy="36828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-36273"/>
              <a:gd name="adj5" fmla="val 232518"/>
              <a:gd name="adj6" fmla="val -4081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imes New Roman"/>
              </a:rPr>
              <a:t>tidpunk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85840" y="33577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7040" y="4095720"/>
            <a:ext cx="10191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5573880" y="2124720"/>
            <a:ext cx="3352680" cy="547200"/>
            <a:chOff x="5573880" y="2124720"/>
            <a:chExt cx="3352680" cy="547200"/>
          </a:xfrm>
        </p:grpSpPr>
        <p:grpSp>
          <p:nvGrpSpPr>
            <p:cNvPr id="799" name=""/>
            <p:cNvGrpSpPr/>
            <p:nvPr/>
          </p:nvGrpSpPr>
          <p:grpSpPr>
            <a:xfrm>
              <a:off x="5650560" y="2124720"/>
              <a:ext cx="1739520" cy="547200"/>
              <a:chOff x="5650560" y="2124720"/>
              <a:chExt cx="1739520" cy="547200"/>
            </a:xfrm>
          </p:grpSpPr>
          <p:sp>
            <p:nvSpPr>
              <p:cNvPr id="800" name=""/>
              <p:cNvSpPr/>
              <p:nvPr/>
            </p:nvSpPr>
            <p:spPr>
              <a:xfrm>
                <a:off x="5650560" y="2124720"/>
                <a:ext cx="121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ff"/>
                    </a:solidFill>
                    <a:latin typeface="Times New Roman"/>
                  </a:rPr>
                  <a:t>1: { ps }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35640" y="2506680"/>
                <a:ext cx="533520" cy="165240"/>
              </a:xfrm>
              <a:custGeom>
                <a:avLst/>
                <a:gdLst/>
                <a:ahLst/>
                <a:rect l="l" t="t" r="r" b="b"/>
                <a:pathLst>
                  <a:path w="336" h="104">
                    <a:moveTo>
                      <a:pt x="0" y="48"/>
                    </a:moveTo>
                    <a:cubicBezTo>
                      <a:pt x="20" y="76"/>
                      <a:pt x="40" y="104"/>
                      <a:pt x="96" y="96"/>
                    </a:cubicBezTo>
                    <a:cubicBezTo>
                      <a:pt x="152" y="88"/>
                      <a:pt x="244" y="44"/>
                      <a:pt x="336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52600" y="2169360"/>
                <a:ext cx="53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v-SE" sz="1800" spc="-1" strike="noStrike">
                    <a:solidFill>
                      <a:srgbClr val="ffffff"/>
                    </a:solidFill>
                    <a:latin typeface="Times New Roman"/>
                  </a:rPr>
                  <a:t>nu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5573880" y="212580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5573880" y="1675440"/>
            <a:ext cx="3352680" cy="459720"/>
            <a:chOff x="5573880" y="1675440"/>
            <a:chExt cx="3352680" cy="459720"/>
          </a:xfrm>
        </p:grpSpPr>
        <p:sp>
          <p:nvSpPr>
            <p:cNvPr id="805" name=""/>
            <p:cNvSpPr/>
            <p:nvPr/>
          </p:nvSpPr>
          <p:spPr>
            <a:xfrm>
              <a:off x="5655240" y="1675440"/>
              <a:ext cx="7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0: </a:t>
              </a:r>
              <a:r>
                <a:rPr b="0" lang="sv-SE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573880" y="175248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5562720" y="2729520"/>
            <a:ext cx="3352680" cy="670320"/>
            <a:chOff x="5562720" y="2729520"/>
            <a:chExt cx="3352680" cy="670320"/>
          </a:xfrm>
        </p:grpSpPr>
        <p:grpSp>
          <p:nvGrpSpPr>
            <p:cNvPr id="808" name=""/>
            <p:cNvGrpSpPr/>
            <p:nvPr/>
          </p:nvGrpSpPr>
          <p:grpSpPr>
            <a:xfrm>
              <a:off x="5562720" y="2729520"/>
              <a:ext cx="3352680" cy="547200"/>
              <a:chOff x="5562720" y="2729520"/>
              <a:chExt cx="3352680" cy="547200"/>
            </a:xfrm>
          </p:grpSpPr>
          <p:sp>
            <p:nvSpPr>
              <p:cNvPr id="809" name=""/>
              <p:cNvSpPr/>
              <p:nvPr/>
            </p:nvSpPr>
            <p:spPr>
              <a:xfrm>
                <a:off x="5639400" y="2729520"/>
                <a:ext cx="121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ffffff"/>
                    </a:solidFill>
                    <a:latin typeface="Times New Roman"/>
                  </a:rPr>
                  <a:t>2: { ps }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324480" y="3111480"/>
                <a:ext cx="533520" cy="165240"/>
              </a:xfrm>
              <a:custGeom>
                <a:avLst/>
                <a:gdLst/>
                <a:ahLst/>
                <a:rect l="l" t="t" r="r" b="b"/>
                <a:pathLst>
                  <a:path w="336" h="104">
                    <a:moveTo>
                      <a:pt x="0" y="48"/>
                    </a:moveTo>
                    <a:cubicBezTo>
                      <a:pt x="20" y="76"/>
                      <a:pt x="40" y="104"/>
                      <a:pt x="96" y="96"/>
                    </a:cubicBezTo>
                    <a:cubicBezTo>
                      <a:pt x="152" y="88"/>
                      <a:pt x="244" y="44"/>
                      <a:pt x="336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562720" y="2730600"/>
                <a:ext cx="3352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934320" y="2898720"/>
                <a:ext cx="45720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391520" y="2898720"/>
                <a:ext cx="45720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848720" y="2898720"/>
                <a:ext cx="45720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305920" y="2898720"/>
                <a:ext cx="457200" cy="225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928920" y="2820240"/>
                <a:ext cx="53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v-SE" sz="1800" spc="-1" strike="noStrike">
                    <a:solidFill>
                      <a:srgbClr val="ffffff"/>
                    </a:solidFill>
                    <a:latin typeface="Times New Roman"/>
                  </a:rPr>
                  <a:t>nu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386120" y="2818800"/>
                <a:ext cx="53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v-SE" sz="1800" spc="-1" strike="noStrike">
                    <a:solidFill>
                      <a:srgbClr val="ffffff"/>
                    </a:solidFill>
                    <a:latin typeface="Times New Roman"/>
                  </a:rPr>
                  <a:t>nu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843320" y="2818800"/>
                <a:ext cx="53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v-SE" sz="1800" spc="-1" strike="noStrike">
                    <a:solidFill>
                      <a:srgbClr val="ffffff"/>
                    </a:solidFill>
                    <a:latin typeface="Times New Roman"/>
                  </a:rPr>
                  <a:t>nu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300520" y="2818800"/>
                <a:ext cx="53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sv-SE" sz="1800" spc="-1" strike="noStrike">
                    <a:solidFill>
                      <a:srgbClr val="ffffff"/>
                    </a:solidFill>
                    <a:latin typeface="Times New Roman"/>
                  </a:rPr>
                  <a:t>nu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7025400" y="312336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Times New Roman"/>
                </a:rPr>
                <a:t>[0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69640" y="312336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Times New Roman"/>
                </a:rPr>
                <a:t>[1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69960" y="312336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Times New Roman"/>
                </a:rPr>
                <a:t>[2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327160" y="312336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Times New Roman"/>
                </a:rPr>
                <a:t>[3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5562720" y="3415320"/>
            <a:ext cx="3352680" cy="670320"/>
            <a:chOff x="5562720" y="3415320"/>
            <a:chExt cx="3352680" cy="670320"/>
          </a:xfrm>
        </p:grpSpPr>
        <p:sp>
          <p:nvSpPr>
            <p:cNvPr id="825" name=""/>
            <p:cNvSpPr/>
            <p:nvPr/>
          </p:nvSpPr>
          <p:spPr>
            <a:xfrm>
              <a:off x="5639400" y="3415320"/>
              <a:ext cx="12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3: { ps }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324480" y="3797280"/>
              <a:ext cx="533520" cy="165240"/>
            </a:xfrm>
            <a:custGeom>
              <a:avLst/>
              <a:gdLst/>
              <a:ahLst/>
              <a:rect l="l" t="t" r="r" b="b"/>
              <a:pathLst>
                <a:path w="336" h="104">
                  <a:moveTo>
                    <a:pt x="0" y="48"/>
                  </a:moveTo>
                  <a:cubicBezTo>
                    <a:pt x="20" y="76"/>
                    <a:pt x="40" y="104"/>
                    <a:pt x="96" y="96"/>
                  </a:cubicBezTo>
                  <a:cubicBezTo>
                    <a:pt x="152" y="88"/>
                    <a:pt x="244" y="44"/>
                    <a:pt x="336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62720" y="341640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934320" y="3584520"/>
              <a:ext cx="457200" cy="225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91520" y="3584520"/>
              <a:ext cx="457200" cy="225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48720" y="3584520"/>
              <a:ext cx="457200" cy="225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305920" y="3584520"/>
              <a:ext cx="457200" cy="225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928920" y="350604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86120" y="35046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843320" y="35046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300520" y="35046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12440" y="380916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Times New Roman"/>
                </a:rPr>
                <a:t>[0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457040" y="380916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Times New Roman"/>
                </a:rPr>
                <a:t>[1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857000" y="380916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Times New Roman"/>
                </a:rPr>
                <a:t>[2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314200" y="380916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Times New Roman"/>
                </a:rPr>
                <a:t>[3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5562720" y="4131360"/>
            <a:ext cx="3352680" cy="1203840"/>
            <a:chOff x="5562720" y="4131360"/>
            <a:chExt cx="3352680" cy="1203840"/>
          </a:xfrm>
        </p:grpSpPr>
        <p:sp>
          <p:nvSpPr>
            <p:cNvPr id="841" name=""/>
            <p:cNvSpPr/>
            <p:nvPr/>
          </p:nvSpPr>
          <p:spPr>
            <a:xfrm>
              <a:off x="5639400" y="4131360"/>
              <a:ext cx="12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4: { ps }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324480" y="4513320"/>
              <a:ext cx="533520" cy="164880"/>
            </a:xfrm>
            <a:custGeom>
              <a:avLst/>
              <a:gdLst/>
              <a:ahLst/>
              <a:rect l="l" t="t" r="r" b="b"/>
              <a:pathLst>
                <a:path w="336" h="104">
                  <a:moveTo>
                    <a:pt x="0" y="48"/>
                  </a:moveTo>
                  <a:cubicBezTo>
                    <a:pt x="20" y="76"/>
                    <a:pt x="40" y="104"/>
                    <a:pt x="96" y="96"/>
                  </a:cubicBezTo>
                  <a:cubicBezTo>
                    <a:pt x="152" y="88"/>
                    <a:pt x="244" y="44"/>
                    <a:pt x="336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562720" y="413244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934320" y="4300560"/>
              <a:ext cx="457200" cy="225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91520" y="4300560"/>
              <a:ext cx="457200" cy="225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848720" y="4300560"/>
              <a:ext cx="457200" cy="225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305920" y="4300560"/>
              <a:ext cx="457200" cy="225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928920" y="422208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386120" y="422028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300520" y="422028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12440" y="452520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Times New Roman"/>
                </a:rPr>
                <a:t>[0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57040" y="452520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Times New Roman"/>
                </a:rPr>
                <a:t>[1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314200" y="452520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Times New Roman"/>
                </a:rPr>
                <a:t>[3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24680" y="4419720"/>
              <a:ext cx="241560" cy="457200"/>
            </a:xfrm>
            <a:custGeom>
              <a:avLst/>
              <a:gdLst/>
              <a:ahLst/>
              <a:rect l="l" t="t" r="r" b="b"/>
              <a:pathLst>
                <a:path w="152" h="288">
                  <a:moveTo>
                    <a:pt x="104" y="0"/>
                  </a:moveTo>
                  <a:cubicBezTo>
                    <a:pt x="52" y="48"/>
                    <a:pt x="0" y="96"/>
                    <a:pt x="8" y="144"/>
                  </a:cubicBezTo>
                  <a:cubicBezTo>
                    <a:pt x="16" y="192"/>
                    <a:pt x="128" y="264"/>
                    <a:pt x="152" y="28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153280" y="4876920"/>
              <a:ext cx="685800" cy="22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090640" y="483012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Lucida Console"/>
                </a:rPr>
                <a:t>”</a:t>
              </a:r>
              <a:r>
                <a:rPr b="0" lang="sv-SE" sz="1200" spc="-1" strike="noStrike">
                  <a:solidFill>
                    <a:srgbClr val="ffffff"/>
                  </a:solidFill>
                  <a:latin typeface="Lucida Console"/>
                </a:rPr>
                <a:t>Kalle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153280" y="5105520"/>
              <a:ext cx="685800" cy="22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64960" y="50587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Lucida Console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5562720" y="5426640"/>
            <a:ext cx="3352680" cy="1203840"/>
            <a:chOff x="5562720" y="5426640"/>
            <a:chExt cx="3352680" cy="1203840"/>
          </a:xfrm>
        </p:grpSpPr>
        <p:sp>
          <p:nvSpPr>
            <p:cNvPr id="860" name=""/>
            <p:cNvSpPr/>
            <p:nvPr/>
          </p:nvSpPr>
          <p:spPr>
            <a:xfrm>
              <a:off x="5639400" y="5426640"/>
              <a:ext cx="12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5: { ps }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324480" y="5808600"/>
              <a:ext cx="533520" cy="165240"/>
            </a:xfrm>
            <a:custGeom>
              <a:avLst/>
              <a:gdLst/>
              <a:ahLst/>
              <a:rect l="l" t="t" r="r" b="b"/>
              <a:pathLst>
                <a:path w="336" h="104">
                  <a:moveTo>
                    <a:pt x="0" y="48"/>
                  </a:moveTo>
                  <a:cubicBezTo>
                    <a:pt x="20" y="76"/>
                    <a:pt x="40" y="104"/>
                    <a:pt x="96" y="96"/>
                  </a:cubicBezTo>
                  <a:cubicBezTo>
                    <a:pt x="152" y="88"/>
                    <a:pt x="244" y="44"/>
                    <a:pt x="336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562720" y="542772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934320" y="5595840"/>
              <a:ext cx="457200" cy="225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391520" y="5595840"/>
              <a:ext cx="457200" cy="225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848720" y="5595840"/>
              <a:ext cx="457200" cy="225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305920" y="5595840"/>
              <a:ext cx="457200" cy="225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28920" y="551736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386120" y="551592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300520" y="551592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v-SE" sz="1800" spc="-1" strike="noStrike">
                  <a:solidFill>
                    <a:srgbClr val="ffffff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012440" y="582048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Times New Roman"/>
                </a:rPr>
                <a:t>[0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457040" y="582048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Times New Roman"/>
                </a:rPr>
                <a:t>[1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14200" y="582048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Times New Roman"/>
                </a:rPr>
                <a:t>[3]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924680" y="5715000"/>
              <a:ext cx="241560" cy="457200"/>
            </a:xfrm>
            <a:custGeom>
              <a:avLst/>
              <a:gdLst/>
              <a:ahLst/>
              <a:rect l="l" t="t" r="r" b="b"/>
              <a:pathLst>
                <a:path w="152" h="288">
                  <a:moveTo>
                    <a:pt x="104" y="0"/>
                  </a:moveTo>
                  <a:cubicBezTo>
                    <a:pt x="52" y="48"/>
                    <a:pt x="0" y="96"/>
                    <a:pt x="8" y="144"/>
                  </a:cubicBezTo>
                  <a:cubicBezTo>
                    <a:pt x="16" y="192"/>
                    <a:pt x="128" y="264"/>
                    <a:pt x="152" y="28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153280" y="6172200"/>
              <a:ext cx="685800" cy="22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90640" y="612540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Lucida Console"/>
                </a:rPr>
                <a:t>”</a:t>
              </a:r>
              <a:r>
                <a:rPr b="0" lang="sv-SE" sz="1200" spc="-1" strike="noStrike">
                  <a:solidFill>
                    <a:srgbClr val="ffffff"/>
                  </a:solidFill>
                  <a:latin typeface="Lucida Console"/>
                </a:rPr>
                <a:t>Kalle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153280" y="6400800"/>
              <a:ext cx="685800" cy="22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319240" y="635400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ffffff"/>
                  </a:solidFill>
                  <a:latin typeface="Lucida Console"/>
                </a:rPr>
                <a:t>4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Datastruktur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rrayer: statisk storlek när de väl skapat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ecto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- klass i Java tillhandahåller en ”dynamisk array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new Vector()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- skapar en ny tom vek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.add( object )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- Lägg till ett objek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.setElementAt( object, index ) -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sätter ett element i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(ökar storlek på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automatisk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.elementAt( index )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- hämtar ett element i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Samling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lla datastrukturer i Java som lagrar ett eller flera objekt kallas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Collection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Vecto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(ärver)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Col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För att iterera igenom alla element i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Collection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tillhandahålls metod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iterator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809880" y="838080"/>
            <a:ext cx="5334120" cy="50292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public class M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public static void main( String [] args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Vector v2 = new Vector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v2.add( "Vector2"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v2.add( new Test(42)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Vector v = new Vector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v.add( "Vector1"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v.add( new Test(4711)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v.add( v2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int cnt =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for (Iterator it = v.iterator(); 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 it.hasNext(); cnt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Object o = it.next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System.out.println( "Element no. "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+ cnt + ": " + o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28600" y="1219320"/>
            <a:ext cx="3429000" cy="46479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import java.util.*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class T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private int thisValu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public Test( int v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{ thisValue = v; 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public String toString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{ return "Test{" 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thisValue + "}"; 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>
            <a:hlinkClick r:id="rId1"/>
          </p:cNvPr>
          <p:cNvSpPr/>
          <p:nvPr/>
        </p:nvSpPr>
        <p:spPr>
          <a:xfrm>
            <a:off x="236160" y="6059160"/>
            <a:ext cx="52956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ö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>
            <a:hlinkClick r:id="rId2"/>
          </p:cNvPr>
          <p:cNvSpPr/>
          <p:nvPr/>
        </p:nvSpPr>
        <p:spPr>
          <a:xfrm>
            <a:off x="1093320" y="6059160"/>
            <a:ext cx="88020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ällk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>
            <a:hlinkClick r:id="rId3"/>
          </p:cNvPr>
          <p:cNvSpPr/>
          <p:nvPr/>
        </p:nvSpPr>
        <p:spPr>
          <a:xfrm>
            <a:off x="7284960" y="6059160"/>
            <a:ext cx="154620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ommandotol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Statiska attribut/metod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lla objekt för en klass kan dela vissa egenskap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Dessa egenskaper benämns som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tatisk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tatisk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= statisk minnesalloke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tatisk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av historiska skäl (C++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genskaperna knutna till klassen istället för objekt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28600" y="1143000"/>
            <a:ext cx="4648320" cy="48006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class Termost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static int    mi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static int    max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int temperatu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Termostat(jnt 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 temperatur = 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static void sättMin(int 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 min = 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static void sättMax(int 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 max = 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void sättTemperatur(int 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 temperatur = 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105520" y="228600"/>
            <a:ext cx="3886200" cy="32004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Termostat t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new Termostat(42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Termostat t2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new Termostat(11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t.sättMin(1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Termostat.sättMin(15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t.sättTemperatur(47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Termostat.sättMax(59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07320" y="3504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t.min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805520" y="350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7320" y="37947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t.max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818480" y="37947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106960" y="57585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Termostat.min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818480" y="5758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106960" y="543780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Termostat.max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818480" y="5453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06960" y="41137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t.temperatur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818480" y="409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106960" y="44791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t2.min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786440" y="4479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106960" y="47538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t2.max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786440" y="4753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5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106960" y="502812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t2.temperatur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818480" y="5028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107320" y="607932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Termostat.temperatur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6705720" y="6324480"/>
            <a:ext cx="1523880" cy="534600"/>
            <a:chOff x="6705720" y="6324480"/>
            <a:chExt cx="1523880" cy="534600"/>
          </a:xfrm>
        </p:grpSpPr>
        <p:grpSp>
          <p:nvGrpSpPr>
            <p:cNvPr id="911" name=""/>
            <p:cNvGrpSpPr/>
            <p:nvPr/>
          </p:nvGrpSpPr>
          <p:grpSpPr>
            <a:xfrm>
              <a:off x="6705720" y="6324480"/>
              <a:ext cx="1523880" cy="152640"/>
              <a:chOff x="6705720" y="6324480"/>
              <a:chExt cx="1523880" cy="152640"/>
            </a:xfrm>
          </p:grpSpPr>
          <p:sp>
            <p:nvSpPr>
              <p:cNvPr id="912" name=""/>
              <p:cNvSpPr/>
              <p:nvPr/>
            </p:nvSpPr>
            <p:spPr>
              <a:xfrm>
                <a:off x="6705720" y="6324480"/>
                <a:ext cx="7596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781680" y="6477120"/>
                <a:ext cx="1371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8153280" y="6324480"/>
                <a:ext cx="7632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>
              <a:off x="6894360" y="6460200"/>
              <a:ext cx="12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ffffff"/>
                  </a:solidFill>
                  <a:latin typeface="Times New Roman"/>
                </a:rPr>
                <a:t>Finns ej!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8580240" y="6079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!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Funktion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tatisk metod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funk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funktion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något som endast beror av dess aktuella in-parametr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metod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beroende av in-parametrar och dess nuvarande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 tillstånd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(objek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Objektorientering i all ära, men funktioner kan vara bra i vissa sammanha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Javas matematikbibliotek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176480" y="2738520"/>
            <a:ext cx="7573680" cy="1421640"/>
            <a:chOff x="1176480" y="2738520"/>
            <a:chExt cx="7573680" cy="1421640"/>
          </a:xfrm>
        </p:grpSpPr>
        <p:sp>
          <p:nvSpPr>
            <p:cNvPr id="922" name=""/>
            <p:cNvSpPr/>
            <p:nvPr/>
          </p:nvSpPr>
          <p:spPr>
            <a:xfrm>
              <a:off x="1176480" y="2738520"/>
              <a:ext cx="3852720" cy="10713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2880" bIns="46800" anchor="t">
              <a:no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    </a:t>
              </a: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double r = Math.sqrt(42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ffffff"/>
                  </a:solidFill>
                  <a:latin typeface="Lucida Console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260680" y="3791880"/>
              <a:ext cx="3489480" cy="368280"/>
            </a:xfrm>
            <a:prstGeom prst="borderCallout2">
              <a:avLst>
                <a:gd name="adj1" fmla="val 18750"/>
                <a:gd name="adj2" fmla="val -8333"/>
                <a:gd name="adj3" fmla="val 30379"/>
                <a:gd name="adj4" fmla="val -15666"/>
                <a:gd name="adj5" fmla="val -95018"/>
                <a:gd name="adj6" fmla="val -29819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Times New Roman"/>
                </a:rPr>
                <a:t>Kvadratrotsfunktion i klassen Math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685800" y="4343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i vill ej behöva skr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143000" y="5024520"/>
            <a:ext cx="3886200" cy="14526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Math dummy = new Math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double r = dummy.sqrt(4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ceptions (undantag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beräkning kan resultera i ett f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Fel är i sig objekt av typen </a:t>
            </a:r>
            <a:r>
              <a:rPr b="0" lang="sv-SE" sz="2800" spc="-1" strike="noStrike">
                <a:solidFill>
                  <a:srgbClr val="ffffff"/>
                </a:solidFill>
                <a:latin typeface="Lucida Console"/>
              </a:rPr>
              <a:t>Exception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i vill ej utöka resultatmängden med f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Fel betraktas därför som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undantag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Det finns i systemet olika kategorier av fel. Dessa är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ubklasse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till </a:t>
            </a:r>
            <a:r>
              <a:rPr b="0" lang="sv-SE" sz="2800" spc="-1" strike="noStrike">
                <a:solidFill>
                  <a:srgbClr val="ffffff"/>
                </a:solidFill>
                <a:latin typeface="Lucida Console"/>
              </a:rPr>
              <a:t>Exception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ceptions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När uppstår f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447920" y="2666880"/>
            <a:ext cx="6629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Division med no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Index utanför arr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Konvertering från strängar till helt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Datahämtning från ett ”dött” nätve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m.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Java Development Kit (JDK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Suns egna minimalistiska utvecklingspake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JDK sätter standarden för Ja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Hämtas gratis hos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http://java.sun.c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 JDK ingår bl.a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3902040"/>
          <a:ext cx="6435720" cy="318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902040"/>
                    <a:ext cx="643572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ceptions (3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tt kodavsnitt provkörs med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try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om felen ska hante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tt fel hanteras i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felhanterare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med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catch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Flera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felhanterar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kan användas för att hantera olika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feltype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issa potentiella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feltype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måste hante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0880" y="1752480"/>
            <a:ext cx="7543800" cy="48006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public class 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static public void main( String [] args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800" spc="-1" strike="noStrike">
                <a:solidFill>
                  <a:srgbClr val="ffff00"/>
                </a:solidFill>
                <a:latin typeface="Lucida Console"/>
              </a:rPr>
              <a:t>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800" spc="-1" strike="noStrike">
                <a:solidFill>
                  <a:srgbClr val="ffff00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int n = Integer.parseInt( args[0] 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System.out.println("OK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System.out.println(n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800" spc="-1" strike="noStrike">
                <a:solidFill>
                  <a:srgbClr val="ffff00"/>
                </a:solidFill>
                <a:latin typeface="Lucida Console"/>
              </a:rPr>
              <a:t>} catch (NumberFormatException 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00"/>
                </a:solidFill>
                <a:latin typeface="Lucida Console"/>
              </a:rPr>
              <a:t>       </a:t>
            </a:r>
            <a:r>
              <a:rPr b="1" lang="sv-SE" sz="1800" spc="-1" strike="noStrike">
                <a:solidFill>
                  <a:srgbClr val="ffff00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00"/>
                </a:solidFill>
                <a:latin typeface="Lucida Console"/>
              </a:rPr>
              <a:t>	</a:t>
            </a:r>
            <a:r>
              <a:rPr b="1" lang="sv-SE" sz="1800" spc="-1" strike="noStrike">
                <a:solidFill>
                  <a:srgbClr val="ffff00"/>
                </a:solidFill>
                <a:latin typeface="Lucida Console"/>
              </a:rPr>
              <a:t>    </a:t>
            </a:r>
            <a:r>
              <a:rPr b="1" lang="sv-SE" sz="1800" spc="-1" strike="noStrike">
                <a:solidFill>
                  <a:srgbClr val="ffff00"/>
                </a:solidFill>
                <a:latin typeface="Lucida Console"/>
              </a:rPr>
              <a:t>System.out.println("Ett fel uppstod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00"/>
                </a:solidFill>
                <a:latin typeface="Lucida Console"/>
              </a:rPr>
              <a:t>	</a:t>
            </a:r>
            <a:r>
              <a:rPr b="1" lang="sv-SE" sz="1800" spc="-1" strike="noStrike">
                <a:solidFill>
                  <a:srgbClr val="ffff00"/>
                </a:solidFill>
                <a:latin typeface="Lucida Console"/>
              </a:rPr>
              <a:t>    </a:t>
            </a:r>
            <a:r>
              <a:rPr b="1" lang="sv-SE" sz="1800" spc="-1" strike="noStrike">
                <a:solidFill>
                  <a:srgbClr val="ffff00"/>
                </a:solidFill>
                <a:latin typeface="Lucida Console"/>
              </a:rPr>
              <a:t>System.out.println( e 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00"/>
                </a:solidFill>
                <a:latin typeface="Lucida Console"/>
              </a:rPr>
              <a:t>       </a:t>
            </a:r>
            <a:r>
              <a:rPr b="1" lang="sv-SE" sz="1800" spc="-1" strike="noStrike">
                <a:solidFill>
                  <a:srgbClr val="ffff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>
            <a:hlinkClick r:id="rId1"/>
          </p:cNvPr>
          <p:cNvSpPr/>
          <p:nvPr/>
        </p:nvSpPr>
        <p:spPr>
          <a:xfrm>
            <a:off x="403920" y="1070280"/>
            <a:ext cx="212400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Kör: Arg[0]=4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>
            <a:hlinkClick r:id="rId2"/>
          </p:cNvPr>
          <p:cNvSpPr/>
          <p:nvPr/>
        </p:nvSpPr>
        <p:spPr>
          <a:xfrm>
            <a:off x="2899440" y="1070280"/>
            <a:ext cx="227628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Kör: Arg[0]=4q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>
            <a:hlinkClick r:id="rId3"/>
          </p:cNvPr>
          <p:cNvSpPr/>
          <p:nvPr/>
        </p:nvSpPr>
        <p:spPr>
          <a:xfrm>
            <a:off x="5824080" y="1060560"/>
            <a:ext cx="209628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Kommandoto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gna felkategori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gna felkategorier kan skapas genom at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ärv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klassen </a:t>
            </a:r>
            <a:r>
              <a:rPr b="0" lang="sv-SE" sz="2800" spc="-1" strike="noStrike">
                <a:solidFill>
                  <a:srgbClr val="ffffff"/>
                </a:solidFill>
                <a:latin typeface="Lucida Console"/>
              </a:rPr>
              <a:t>Exception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gna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felobjek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skapas med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new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För att få ett eget fel att uppstå används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throw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på et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felobjek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57200" y="1066680"/>
            <a:ext cx="6553080" cy="56390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MyException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extends Excep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tring inf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MyException(String info) { this.info = info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blic class M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tatic public void main( String [] args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t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f (args[0].equals(”foo”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throw new MyException(”info”);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 catch (MyException 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ystem.out.println("Ett fel uppstod: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ystem.out.println( e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ystem.out.println(”Exekvera mera...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>
            <a:hlinkClick r:id="rId1"/>
          </p:cNvPr>
          <p:cNvSpPr/>
          <p:nvPr/>
        </p:nvSpPr>
        <p:spPr>
          <a:xfrm>
            <a:off x="7324200" y="1071000"/>
            <a:ext cx="160884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ör: Arg[0]=fo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>
            <a:hlinkClick r:id="rId2"/>
          </p:cNvPr>
          <p:cNvSpPr/>
          <p:nvPr/>
        </p:nvSpPr>
        <p:spPr>
          <a:xfrm>
            <a:off x="7324200" y="1715760"/>
            <a:ext cx="16423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ör: Arg[0]=b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>
            <a:hlinkClick r:id="rId3"/>
          </p:cNvPr>
          <p:cNvSpPr/>
          <p:nvPr/>
        </p:nvSpPr>
        <p:spPr>
          <a:xfrm>
            <a:off x="7323120" y="6363720"/>
            <a:ext cx="154620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ommandotol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>
            <a:hlinkClick r:id="rId4"/>
          </p:cNvPr>
          <p:cNvSpPr/>
          <p:nvPr/>
        </p:nvSpPr>
        <p:spPr>
          <a:xfrm>
            <a:off x="7322760" y="2366640"/>
            <a:ext cx="88020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ällk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ceptions (throws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 Java måste alla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egna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potentiella fel hante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Dvs, alla ställen med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throw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måste ha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catch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metod kan annoteras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felbenägen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med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thr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Alla anrop till felbenägna metoder måste hante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57200" y="1066680"/>
            <a:ext cx="6553080" cy="56390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MyException extends Excep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tring inf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MyException(String info) { this.info = info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blic class M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tatic public void foo()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throws MyExcep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throw new MyException(”info”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tatic public void main( String [] args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f (args[0].equals(”foo”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try {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foo();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catch (Exception 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 System.out.println(”Fel!”)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ystem.out.println(”Exekvera mera...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>
            <a:hlinkClick r:id="rId1"/>
          </p:cNvPr>
          <p:cNvSpPr/>
          <p:nvPr/>
        </p:nvSpPr>
        <p:spPr>
          <a:xfrm>
            <a:off x="7324200" y="1071000"/>
            <a:ext cx="160884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ör: Arg[0]=fo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>
            <a:hlinkClick r:id="rId2"/>
          </p:cNvPr>
          <p:cNvSpPr/>
          <p:nvPr/>
        </p:nvSpPr>
        <p:spPr>
          <a:xfrm>
            <a:off x="7324200" y="1715760"/>
            <a:ext cx="164232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ör: Arg[0]=b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>
            <a:hlinkClick r:id="rId3"/>
          </p:cNvPr>
          <p:cNvSpPr/>
          <p:nvPr/>
        </p:nvSpPr>
        <p:spPr>
          <a:xfrm>
            <a:off x="7323120" y="6363720"/>
            <a:ext cx="154620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ommandotol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>
            <a:hlinkClick r:id="rId4"/>
          </p:cNvPr>
          <p:cNvSpPr/>
          <p:nvPr/>
        </p:nvSpPr>
        <p:spPr>
          <a:xfrm>
            <a:off x="7322760" y="2366640"/>
            <a:ext cx="88020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ällk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ceptions (Att tänka på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Standardbiblioteket, JFC, betraktas som ”vanlig” k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Fel som potentiellt kastas i JFC måste hantera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 Java finns en toppnivåklass </a:t>
            </a:r>
            <a:r>
              <a:rPr b="0" lang="sv-SE" sz="3200" spc="-1" strike="noStrike">
                <a:solidFill>
                  <a:srgbClr val="ffffff"/>
                </a:solidFill>
                <a:latin typeface="Lucida Console"/>
              </a:rPr>
              <a:t>Objec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klasser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ärve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Lucida Console"/>
              </a:rPr>
              <a:t>Objec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(direkt/indirek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Om ”extends” utelämnas så är det underförstått ”extends Object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 klassen Object finns vissa fundamentala egenskap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143000" y="44956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boolean equals(Object other)</a:t>
            </a:r>
            <a:r>
              <a:rPr b="0" lang="sv-SE" sz="2000" spc="-1" strike="noStrike">
                <a:solidFill>
                  <a:srgbClr val="ffffff"/>
                </a:solidFill>
                <a:latin typeface="Times New Roman"/>
              </a:rPr>
              <a:t>, för att definiera likhe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String toString()</a:t>
            </a:r>
            <a:r>
              <a:rPr b="0" lang="sv-SE" sz="2000" spc="-1" strike="noStrike">
                <a:solidFill>
                  <a:srgbClr val="ffffff"/>
                </a:solidFill>
                <a:latin typeface="Times New Roman"/>
              </a:rPr>
              <a:t>, gör om objektet till en sträng. (Bra för utskrift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Object clone()</a:t>
            </a:r>
            <a:r>
              <a:rPr b="0" lang="sv-SE" sz="2000" spc="-1" strike="noStrike">
                <a:solidFill>
                  <a:srgbClr val="ffffff"/>
                </a:solidFill>
                <a:latin typeface="Times New Roman"/>
              </a:rPr>
              <a:t>, gör en kopia av objekte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Lucida Console"/>
              </a:rPr>
              <a:t>int hashCode()</a:t>
            </a:r>
            <a:r>
              <a:rPr b="0" lang="sv-SE" sz="2000" spc="-1" strike="noStrike">
                <a:solidFill>
                  <a:srgbClr val="ffffff"/>
                </a:solidFill>
                <a:latin typeface="Times New Roman"/>
              </a:rPr>
              <a:t>, hashvärdet för objekte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objekt </a:t>
            </a:r>
            <a:r>
              <a:rPr b="0" lang="sv-SE" sz="3200" spc="-1" strike="noStrike">
                <a:solidFill>
                  <a:srgbClr val="ffffff"/>
                </a:solidFill>
                <a:latin typeface="Lucida Console"/>
              </a:rPr>
              <a:t>”foo”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av typen </a:t>
            </a:r>
            <a:r>
              <a:rPr b="0" lang="sv-SE" sz="3200" spc="-1" strike="noStrike">
                <a:solidFill>
                  <a:srgbClr val="ffffff"/>
                </a:solidFill>
                <a:latin typeface="Lucida Console"/>
              </a:rPr>
              <a:t>String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Lucida Console"/>
              </a:rPr>
              <a:t>”</a:t>
            </a:r>
            <a:r>
              <a:rPr b="0" lang="sv-SE" sz="3200" spc="-1" strike="noStrike">
                <a:solidFill>
                  <a:srgbClr val="ffffff"/>
                </a:solidFill>
                <a:latin typeface="Lucida Console"/>
              </a:rPr>
              <a:t>foo”.length()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Operatorn </a:t>
            </a:r>
            <a:r>
              <a:rPr b="0" lang="sv-SE" sz="3200" spc="-1" strike="noStrike">
                <a:solidFill>
                  <a:srgbClr val="ffffff"/>
                </a:solidFill>
                <a:latin typeface="Lucida Console"/>
              </a:rPr>
              <a:t>+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kan användas för att konkatenera strängar: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Lucida Console"/>
              </a:rPr>
              <a:t>”foo”+”bar”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Lucida Console"/>
              </a:rPr>
              <a:t>”fooba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Operatorn </a:t>
            </a:r>
            <a:r>
              <a:rPr b="0" lang="sv-SE" sz="3200" spc="-1" strike="noStrike">
                <a:solidFill>
                  <a:srgbClr val="ffffff"/>
                </a:solidFill>
                <a:latin typeface="Lucida Console"/>
              </a:rPr>
              <a:t>+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försöker konvertera objekt till strängar (via </a:t>
            </a:r>
            <a:r>
              <a:rPr b="0" lang="sv-SE" sz="2800" spc="-1" strike="noStrike">
                <a:solidFill>
                  <a:srgbClr val="ffffff"/>
                </a:solidFill>
                <a:latin typeface="Lucida Console"/>
              </a:rPr>
              <a:t>.toString()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) om </a:t>
            </a:r>
            <a:r>
              <a:rPr b="0" i="1" lang="sv-SE" sz="2800" spc="-1" strike="noStrike">
                <a:solidFill>
                  <a:srgbClr val="ffffff"/>
                </a:solidFill>
                <a:latin typeface="Times New Roman"/>
              </a:rPr>
              <a:t>något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objekt är en sträng: 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v-SE" sz="3200" spc="-1" strike="noStrike">
                <a:solidFill>
                  <a:srgbClr val="ffffff"/>
                </a:solidFill>
                <a:latin typeface="Lucida Console"/>
              </a:rPr>
              <a:t>”foobar”+42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Lucida Console"/>
              </a:rPr>
              <a:t>”foobar42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Pak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t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pake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en samling klas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Varje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pake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har ett namn på formen: aaa.bbb.ccc.ddd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klass i ett system har alltid en unik sökväg, exempelvis: </a:t>
            </a:r>
            <a:r>
              <a:rPr b="0" lang="sv-SE" sz="2800" spc="-1" strike="noStrike">
                <a:solidFill>
                  <a:srgbClr val="ffffff"/>
                </a:solidFill>
                <a:latin typeface="Lucida Console"/>
              </a:rPr>
              <a:t>java.awt.Graph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4495680" y="4572000"/>
            <a:ext cx="1828440" cy="534960"/>
            <a:chOff x="4495680" y="4572000"/>
            <a:chExt cx="1828440" cy="534960"/>
          </a:xfrm>
        </p:grpSpPr>
        <p:sp>
          <p:nvSpPr>
            <p:cNvPr id="964" name=""/>
            <p:cNvSpPr/>
            <p:nvPr/>
          </p:nvSpPr>
          <p:spPr>
            <a:xfrm>
              <a:off x="4495680" y="4572000"/>
              <a:ext cx="15264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648320" y="47242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6171840" y="45720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029560" y="464724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pak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00800" y="4572000"/>
            <a:ext cx="1828440" cy="534960"/>
            <a:chOff x="6400800" y="4572000"/>
            <a:chExt cx="1828440" cy="534960"/>
          </a:xfrm>
        </p:grpSpPr>
        <p:sp>
          <p:nvSpPr>
            <p:cNvPr id="969" name=""/>
            <p:cNvSpPr/>
            <p:nvPr/>
          </p:nvSpPr>
          <p:spPr>
            <a:xfrm>
              <a:off x="6400800" y="4572000"/>
              <a:ext cx="15264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553440" y="472428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8076960" y="45720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960600" y="46472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ffffff"/>
                  </a:solidFill>
                  <a:latin typeface="Times New Roman"/>
                </a:rPr>
                <a:t>kla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Java Foundation Classes (JFC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tt tillhörande klassbibliot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Klasser strukturerade i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pake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, exempelv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124080"/>
            <a:ext cx="7162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Grafik: Grafik och grafiska gränssn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Vanliga datatyper: automatiskt växande arrayer, associativa arrayer, stränghantering, bitmängder, m.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Nätverkskommunikation: URL, UDP, TCP/IP, Sockets, m.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Applets: Stöd för Java-program i brows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Paket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För att slippa upprepa paketnamnet kan klasser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importeras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i nuvarande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namnrymd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143000" y="3200400"/>
            <a:ext cx="6553080" cy="335268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import java.util.Hashtab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// importerar alla klasser i java.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import java.io.*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M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tatic public void main( String [] args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Hashtable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h = new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Hashtable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h.put( ”kalle”, new Integer(4711)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Paket i J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Lucida Console"/>
              </a:rPr>
              <a:t>java.lang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- Grundläggande klas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Lucida Console"/>
              </a:rPr>
              <a:t>java.io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- Strömhantering (input/outpu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Lucida Console"/>
              </a:rPr>
              <a:t>java.util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- Listor, mängder, m.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Lucida Console"/>
              </a:rPr>
              <a:t>java.net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- Nätverk (Sockets, HTTP, m.m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Lucida Console"/>
              </a:rPr>
              <a:t>java.awt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- Grafik &amp; grafiska gränssnit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Lucida Console"/>
              </a:rPr>
              <a:t>java.applet</a:t>
            </a: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- Appletstö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Lucida Console"/>
              </a:rPr>
              <a:t>...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och ca 50 paket till i JDK 1.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Åtkomsträttighe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 Java finns fyra sorts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åtkomsträttighete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på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metoder/attribu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3000" y="3048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&lt;inget&gt;</a:t>
            </a:r>
            <a:r>
              <a:rPr b="1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- Endast inom det egna paket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Full åtkomst (över paketgräns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privat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- Endast den egna klass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protected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- Endast den egna klassen och dess arvtag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Tråd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tråd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programexekvering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med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delat minn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 Java måste alla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trådar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va klassen</a:t>
            </a:r>
            <a:r>
              <a:rPr b="0" lang="sv-SE" sz="2800" spc="-1" strike="noStrike">
                <a:solidFill>
                  <a:srgbClr val="ffffff"/>
                </a:solidFill>
                <a:latin typeface="Lucida Console"/>
              </a:rPr>
              <a:t> Thread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eller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interfacet </a:t>
            </a:r>
            <a:r>
              <a:rPr b="0" lang="sv-SE" sz="2800" spc="-1" strike="noStrike">
                <a:solidFill>
                  <a:srgbClr val="ffffff"/>
                </a:solidFill>
                <a:latin typeface="Lucida Console"/>
              </a:rPr>
              <a:t>Runnable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Det är skillnad mellan at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kap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och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tart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tråd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(eller ett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trådobjek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När en tråd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tartas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så delas programexekveringen; metoden </a:t>
            </a:r>
            <a:r>
              <a:rPr b="0" lang="sv-SE" sz="2800" spc="-1" strike="noStrike">
                <a:solidFill>
                  <a:srgbClr val="ffffff"/>
                </a:solidFill>
                <a:latin typeface="Lucida Console"/>
              </a:rPr>
              <a:t>run()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för trådobjektet anropas asynkro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8600" y="1219320"/>
            <a:ext cx="5334120" cy="46479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lass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MyThread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extends Thr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nt counte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MyThread( int c0 ) { counter = c0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blic void ru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for (int i = 0; i &lt; 10; i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ystem.out.println(counter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ounter++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try { Thread.sleep( 10 )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catch (Exception e) {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715000" y="1219320"/>
            <a:ext cx="3200400" cy="46479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blic class M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tatic public vo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main(String [] ar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// Skapa tråd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MyThread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myt = n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MyThread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( 0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// Starta tråd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myt.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start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// Skapa och star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// tråd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new 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MyThread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(1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.</a:t>
            </a:r>
            <a:r>
              <a:rPr b="1" lang="sv-SE" sz="1600" spc="-1" strike="noStrike">
                <a:solidFill>
                  <a:srgbClr val="ffff00"/>
                </a:solidFill>
                <a:latin typeface="Lucida Console"/>
              </a:rPr>
              <a:t>start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>
            <a:hlinkClick r:id="rId1"/>
          </p:cNvPr>
          <p:cNvSpPr/>
          <p:nvPr/>
        </p:nvSpPr>
        <p:spPr>
          <a:xfrm>
            <a:off x="236160" y="6059160"/>
            <a:ext cx="52956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ö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>
            <a:hlinkClick r:id="rId2"/>
          </p:cNvPr>
          <p:cNvSpPr/>
          <p:nvPr/>
        </p:nvSpPr>
        <p:spPr>
          <a:xfrm>
            <a:off x="1093320" y="6059160"/>
            <a:ext cx="88020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ällko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>
            <a:hlinkClick r:id="rId3"/>
          </p:cNvPr>
          <p:cNvSpPr/>
          <p:nvPr/>
        </p:nvSpPr>
        <p:spPr>
          <a:xfrm>
            <a:off x="7284960" y="6059160"/>
            <a:ext cx="154620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Kommandotol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Synkronis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Hur håller vi data konsis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ynchronized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i Java låser ett objekt; endast en tråd kan accessa det åt gång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Kommunikation mellan tråd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notify()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signalerar ett objek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wait()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väntar på att ett objekt ska signale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Grafi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Klasser med grafik i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pakete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ffffff"/>
                </a:solidFill>
                <a:latin typeface="Lucida Console"/>
              </a:rPr>
              <a:t>java.aw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ynlig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eller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osynlig rityt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implementeras i klassen </a:t>
            </a:r>
            <a:r>
              <a:rPr b="0" lang="sv-SE" sz="2800" spc="-1" strike="noStrike">
                <a:solidFill>
                  <a:srgbClr val="ffffff"/>
                </a:solidFill>
                <a:latin typeface="Lucida Console"/>
              </a:rPr>
              <a:t>Graphics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v-SE" sz="2800" spc="-1" strike="noStrike">
                <a:solidFill>
                  <a:srgbClr val="ffffff"/>
                </a:solidFill>
                <a:latin typeface="Lucida Console"/>
              </a:rPr>
              <a:t>Graphics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tillhandahåller operationer som att rita linjer, cirklar, rektanglar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omponen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v-SE" sz="2800" spc="-1" strike="noStrike">
                <a:solidFill>
                  <a:srgbClr val="ffffff"/>
                </a:solidFill>
                <a:latin typeface="Lucida Console"/>
              </a:rPr>
              <a:t>Componen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) har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ynlig rityt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Apple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tt inbäddat program i en webläsare (Explorer/Netscap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init() anropas för initiering (körs innan appleten är synli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Metod som anropas efter initiering är start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om init() och start() är gör ingenting såvida de inte omdefiniera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Applets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är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omponen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och har därför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synlig rityta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applets ritytas 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storlek hämtas från HTML-taggarna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width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och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heigh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När en 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komponen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ska ritas om (t ex om den tidigare varit skymd) så anropar</a:t>
            </a:r>
            <a:r>
              <a:rPr b="0" i="1" lang="sv-SE" sz="3200" spc="-1" strike="noStrike">
                <a:solidFill>
                  <a:srgbClr val="ffffff"/>
                </a:solidFill>
                <a:latin typeface="Times New Roman"/>
              </a:rPr>
              <a:t> systemet</a:t>
            </a:r>
            <a:r>
              <a:rPr b="0" lang="sv-SE" sz="3200" spc="-1" strike="noStrike">
                <a:solidFill>
                  <a:srgbClr val="ffffff"/>
                </a:solidFill>
                <a:latin typeface="Times New Roman"/>
              </a:rPr>
              <a:t> metoden </a:t>
            </a:r>
            <a:r>
              <a:rPr b="0" lang="sv-SE" sz="2800" spc="-1" strike="noStrike">
                <a:solidFill>
                  <a:srgbClr val="ffffff"/>
                </a:solidFill>
                <a:latin typeface="Lucida Console"/>
              </a:rPr>
              <a:t>paint(Graphics g)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med dess </a:t>
            </a:r>
            <a:r>
              <a:rPr b="0" i="1" lang="sv-SE" sz="2800" spc="-1" strike="noStrike">
                <a:solidFill>
                  <a:srgbClr val="ffffff"/>
                </a:solidFill>
                <a:latin typeface="Times New Roman"/>
              </a:rPr>
              <a:t>rityta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som aktuellt </a:t>
            </a:r>
            <a:r>
              <a:rPr b="0" i="1" lang="sv-SE" sz="2800" spc="-1" strike="noStrike">
                <a:solidFill>
                  <a:srgbClr val="ffffff"/>
                </a:solidFill>
                <a:latin typeface="Times New Roman"/>
              </a:rPr>
              <a:t>argument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Anrop från </a:t>
            </a:r>
            <a:r>
              <a:rPr b="0" i="1" lang="sv-SE" sz="2800" spc="-1" strike="noStrike">
                <a:solidFill>
                  <a:srgbClr val="ffffff"/>
                </a:solidFill>
                <a:latin typeface="Times New Roman"/>
              </a:rPr>
              <a:t>systemet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är </a:t>
            </a:r>
            <a:r>
              <a:rPr b="0" i="1" lang="sv-SE" sz="2800" spc="-1" strike="noStrike">
                <a:solidFill>
                  <a:srgbClr val="ffffff"/>
                </a:solidFill>
                <a:latin typeface="Times New Roman"/>
              </a:rPr>
              <a:t>asynkrona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, dvs. de sker från </a:t>
            </a:r>
            <a:r>
              <a:rPr b="0" i="1" lang="sv-SE" sz="2800" spc="-1" strike="noStrike">
                <a:solidFill>
                  <a:srgbClr val="ffffff"/>
                </a:solidFill>
                <a:latin typeface="Times New Roman"/>
              </a:rPr>
              <a:t>systemets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 separata </a:t>
            </a:r>
            <a:r>
              <a:rPr b="0" i="1" lang="sv-SE" sz="2800" spc="-1" strike="noStrike">
                <a:solidFill>
                  <a:srgbClr val="ffffff"/>
                </a:solidFill>
                <a:latin typeface="Times New Roman"/>
              </a:rPr>
              <a:t>tråd</a:t>
            </a:r>
            <a:r>
              <a:rPr b="0" lang="sv-SE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9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ffffff"/>
                </a:solidFill>
                <a:latin typeface="Times New Roman"/>
              </a:rPr>
              <a:t>Exemp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57200" y="1219320"/>
            <a:ext cx="7086600" cy="518148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8288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mport java.awt.*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mport java.applet.*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blic class Main extends Appl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public void paint( Graphics g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System.out.println("paint()!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int w = getSize().width, h = getSize().heigh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g.setColor( Color.blue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g.fillRect( 0, 0, w, h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g.setColor( Color.green.darker()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g.fillOval( 0, 0, w, h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g.setColor( Color.white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g.setFont( new Font("Serif", Font.ITALIC, 80)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g.drawString( "Hello World!", 90, h/2+20 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>
            <a:hlinkClick r:id="rId1"/>
          </p:cNvPr>
          <p:cNvSpPr/>
          <p:nvPr/>
        </p:nvSpPr>
        <p:spPr>
          <a:xfrm>
            <a:off x="7642440" y="1223640"/>
            <a:ext cx="134064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Appletview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>
            <a:hlinkClick r:id="rId2"/>
          </p:cNvPr>
          <p:cNvSpPr/>
          <p:nvPr/>
        </p:nvSpPr>
        <p:spPr>
          <a:xfrm>
            <a:off x="7666920" y="1756800"/>
            <a:ext cx="1089000" cy="3373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ffffff"/>
                </a:solidFill>
                <a:latin typeface="Times New Roman"/>
              </a:rPr>
              <a:t>I Explor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1T15:58:34Z</dcterms:created>
  <dc:creator>Alexander Jean-Claude Bottema</dc:creator>
  <dc:description/>
  <dc:language>en-US</dc:language>
  <cp:lastModifiedBy>Alexander Jean-Claude Bottema</cp:lastModifiedBy>
  <dcterms:modified xsi:type="dcterms:W3CDTF">2000-03-28T13:29:24Z</dcterms:modified>
  <cp:revision>107</cp:revision>
  <dc:subject/>
  <dc:title>Snabbkurs för Java</dc:title>
</cp:coreProperties>
</file>